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356DF9-BFCA-4EC7-B782-B51E1BD22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at is a pe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anyone have an objection to thi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Upload index to central server when you com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search, consult centr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equest doc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Upload index to central server when you com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search, consult centr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equest doc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1141560" y="684360"/>
            <a:ext cx="45748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141560" y="684360"/>
            <a:ext cx="45748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Everyone knows about some small number of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find a file, ask everyone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en you find out who has the doc, ask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Everyone knows about some small number of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find a file, ask everyone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en you find out who has the doc, ask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More systemat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Ids for docs an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Store doc at node with closes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Keep track of small number of nodes with ids close to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oute requests toward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More systemat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Ids for docs an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Store doc at node with closes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Keep track of small number of nodes with ids close to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oute requests toward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A3896-00C3-40AE-A105-F13E313A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reenet more concerned with privacy/security, not as much on delivery guarant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Others: Farsite, SALAD (Douceur) are about fil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at is wrong with this defin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9AE-1B31-4C62-8A0B-6EDB644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2696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73E-814C-4361-B118-C98A377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448-5428-4A35-B358-27629A65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080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808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080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808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E31-C236-40BD-8262-580ED6A7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571-F7F3-4B71-8616-ABB5CF95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4D6-7F80-4E0B-87E9-AB2CB3C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A8-D6C3-4AFB-A68A-E905643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302-7AE9-4D8E-8B99-8C340D3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42920"/>
            <a:ext cx="77706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575-7D1E-4144-928B-9017A15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9FD-EF90-4888-8F60-A12420B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6C0-05E7-4835-9D34-B256BD6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7F5-FB67-4C6C-802B-4645ADF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Applic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400800"/>
            <a:ext cx="455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DB5D4-B41A-4A3A-B938-CFE0D257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wmf"/><Relationship Id="rId13" Type="http://schemas.openxmlformats.org/officeDocument/2006/relationships/image" Target="../media/image16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.wmf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.wmf"/><Relationship Id="rId19" Type="http://schemas.openxmlformats.org/officeDocument/2006/relationships/image" Target="../media/image16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9.wmf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9.wmf"/><Relationship Id="rId25" Type="http://schemas.openxmlformats.org/officeDocument/2006/relationships/image" Target="../media/image16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9.wmf"/><Relationship Id="rId28" Type="http://schemas.openxmlformats.org/officeDocument/2006/relationships/image" Target="../media/image16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9.wmf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9.wmf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9.wmf"/><Relationship Id="rId37" Type="http://schemas.openxmlformats.org/officeDocument/2006/relationships/image" Target="../media/image16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9.wmf"/><Relationship Id="rId40" Type="http://schemas.openxmlformats.org/officeDocument/2006/relationships/image" Target="../media/image16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9.wmf"/><Relationship Id="rId43" Type="http://schemas.openxmlformats.org/officeDocument/2006/relationships/image" Target="../media/image16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9.wmf"/><Relationship Id="rId46" Type="http://schemas.openxmlformats.org/officeDocument/2006/relationships/image" Target="../media/image16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9.wm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9.wmf"/><Relationship Id="rId52" Type="http://schemas.openxmlformats.org/officeDocument/2006/relationships/image" Target="../media/image16.png"/><Relationship Id="rId53" Type="http://schemas.openxmlformats.org/officeDocument/2006/relationships/oleObject" Target="../embeddings/oleObject18.bin"/><Relationship Id="rId54" Type="http://schemas.openxmlformats.org/officeDocument/2006/relationships/image" Target="../media/image9.wmf"/><Relationship Id="rId5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-to-Peer (P2P) networks and appl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Network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ls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s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contribute content, storage, memory, CP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 administrative author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odes enter and leave the network “frequentl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llaborate direc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each other (not through well-known serv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have widel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arying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Goals and Benef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fficient use of resour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used bandwidth, storage, processing power at the “edge of the network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central information, communication and computation bottlene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ggregate resources grow naturally with utiliz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plic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eographic distribu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single point of fail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se of administ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s self-organiz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uilt-in fault tolerance, replication, and load balanc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creased autonom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nymity – Priva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easy in a centralized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ghly dynamic environ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communication and collabor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eer-to-Peer (P2P)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14800" cy="118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133720" cy="104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24280" y="4800600"/>
            <a:ext cx="3810240" cy="138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3733920" cy="74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495680" y="3200400"/>
            <a:ext cx="11430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Appl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sharing (Napster, Gnutella, Kaza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ayer games (Unreal Tournament, DO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borative applications (ICQ, shared whiteboar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computation (Seti@h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-hoc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System Taxonom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ation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mputation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750600" cy="99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750960" cy="99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02920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848720" y="1447920"/>
            <a:ext cx="750600" cy="996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4191120" y="2895480"/>
            <a:ext cx="77616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24382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24382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760" y="2438280"/>
            <a:ext cx="384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51440" y="2438280"/>
            <a:ext cx="1984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951080" y="2438280"/>
            <a:ext cx="30510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5943600" y="55627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7086600" y="4800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010280" y="58672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8001000" y="5486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3048120" y="5638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4191120" y="4876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4114800" y="5943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5105520" y="55627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5228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1219320" y="6019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2209680" y="56386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1902960" y="3962520"/>
            <a:ext cx="2365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6640" y="4038480"/>
            <a:ext cx="3432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4360" y="4114800"/>
            <a:ext cx="26701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65080" y="4114800"/>
            <a:ext cx="17557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27560" y="4114800"/>
            <a:ext cx="1069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9"/>
          <a:stretch/>
        </p:blipFill>
        <p:spPr>
          <a:xfrm>
            <a:off x="1295280" y="49528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341960" y="4114800"/>
            <a:ext cx="155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1148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114800"/>
            <a:ext cx="8380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11480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4114800"/>
            <a:ext cx="2438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96252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4038480"/>
            <a:ext cx="32767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ser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09680" y="3733920"/>
            <a:ext cx="1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724280"/>
            <a:ext cx="464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733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7339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864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888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328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316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044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ser-centric (Common implementation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3733920"/>
            <a:ext cx="22860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339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98800" y="3733920"/>
            <a:ext cx="175572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799160" y="3733920"/>
            <a:ext cx="236520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56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084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608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24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114800" y="5029200"/>
            <a:ext cx="776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77616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76520" y="4648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438280" y="53341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914400" y="4038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924680" y="4267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238880" y="4648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8305920" y="3505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6553080" y="5105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95288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327672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4114800" y="6019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5715000" y="525780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685800" y="2513160"/>
            <a:ext cx="34290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2741760"/>
            <a:ext cx="2667240" cy="13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86000" y="2817360"/>
            <a:ext cx="2057400" cy="19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71800" y="2817720"/>
            <a:ext cx="1447920" cy="259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809880" y="2817360"/>
            <a:ext cx="685800" cy="282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893680"/>
            <a:ext cx="1440" cy="31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722840" y="2894040"/>
            <a:ext cx="536400" cy="28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875120" y="2970000"/>
            <a:ext cx="1222560" cy="22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951440" y="2817360"/>
            <a:ext cx="1984320" cy="22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951080" y="2665440"/>
            <a:ext cx="2670120" cy="19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951080" y="2512800"/>
            <a:ext cx="3127320" cy="17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103360" y="2436480"/>
            <a:ext cx="3279960" cy="12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77616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505320" y="3429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8001000" y="3962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543800" y="4800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6248520" y="2895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324480" y="5410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3809880" y="5791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1447920" y="50292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2819520" y="5638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5029200" y="58672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590920" y="2284200"/>
            <a:ext cx="160020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733920" y="2741400"/>
            <a:ext cx="53316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798800" y="2894040"/>
            <a:ext cx="3841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951080" y="2513160"/>
            <a:ext cx="137484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912600" y="3352680"/>
            <a:ext cx="1298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27000" y="3505320"/>
            <a:ext cx="6886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122280" y="4038480"/>
            <a:ext cx="765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403848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038480"/>
            <a:ext cx="76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411480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505320"/>
            <a:ext cx="838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33526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a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omputer resources and servic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xchange of information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latform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73392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73392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666880"/>
            <a:ext cx="4038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u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2666880"/>
            <a:ext cx="4038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Goals/Benef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 aggreg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d scalability/reli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autono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nymity/priv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Challen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ility and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Resilience and Robust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-to-Peer Content Shar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opular file sharing P2P System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ster, Gnutella, Kazaa, Free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 scale sharing of f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 makes files (music, video, etc.) on their computer available to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B connects to the network, searches for files and downloads files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user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sues of copyright infrin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esearch 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 discovery and group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placement and sear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able and efficient file ex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/privacy/anonymity/tr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sign Concer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resil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u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resil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roach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ed (Distributed Hash Tabl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 index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al “Napster”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when peer connects, it informs central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lice queries for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Alice requests file from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01800" y="838080"/>
            <a:ext cx="4339080" cy="5164200"/>
            <a:chOff x="4501800" y="838080"/>
            <a:chExt cx="4339080" cy="5164200"/>
          </a:xfrm>
        </p:grpSpPr>
        <p:graphicFrame>
          <p:nvGraphicFramePr>
            <p:cNvPr id="279" name="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1" name=""/>
            <p:cNvGrpSpPr/>
            <p:nvPr/>
          </p:nvGrpSpPr>
          <p:grpSpPr>
            <a:xfrm>
              <a:off x="5048280" y="2519280"/>
              <a:ext cx="372960" cy="749520"/>
              <a:chOff x="5048280" y="2519280"/>
              <a:chExt cx="372960" cy="74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5048280" y="3095640"/>
                <a:ext cx="371520" cy="173160"/>
              </a:xfrm>
              <a:prstGeom prst="parallelogram">
                <a:avLst>
                  <a:gd name="adj" fmla="val 826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35480" y="2523960"/>
                <a:ext cx="16992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49720" y="2687760"/>
                <a:ext cx="235080" cy="576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48280" y="2519280"/>
                <a:ext cx="371520" cy="173160"/>
              </a:xfrm>
              <a:prstGeom prst="parallelogram">
                <a:avLst>
                  <a:gd name="adj" fmla="val 826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19800" y="2530440"/>
                <a:ext cx="144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284440" y="3095640"/>
                <a:ext cx="136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79960" y="2762280"/>
                <a:ext cx="155520" cy="331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02280" y="2863800"/>
                <a:ext cx="1191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8172360" y="2970360"/>
            <a:ext cx="66852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360"/>
                      <a:ext cx="66852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"/>
            <p:cNvGraphicFramePr/>
            <p:nvPr/>
          </p:nvGraphicFramePr>
          <p:xfrm>
            <a:off x="7553160" y="387684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84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7440480" y="1781280"/>
            <a:ext cx="693720" cy="606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1280"/>
                      <a:ext cx="69372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4501800" y="1816200"/>
              <a:ext cx="150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ntr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rectory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69600" y="251316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609880" y="2603520"/>
              <a:ext cx="100980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519520" y="2876400"/>
              <a:ext cx="2562120" cy="370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609880" y="2513160"/>
              <a:ext cx="91764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609880" y="2513160"/>
              <a:ext cx="10098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519880" y="3150720"/>
              <a:ext cx="2014560" cy="1009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19880" y="2055960"/>
              <a:ext cx="183168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78520" y="2513160"/>
              <a:ext cx="15541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427720" y="3242880"/>
              <a:ext cx="1192320" cy="1374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6640" y="3335400"/>
              <a:ext cx="1189080" cy="14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164000" y="2421000"/>
              <a:ext cx="552600" cy="237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7720" y="227340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0560" y="286560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5240" y="354492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59520" y="398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0760" y="3470400"/>
              <a:ext cx="24264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44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520" y="1219320"/>
            <a:ext cx="4367160" cy="4978800"/>
            <a:chOff x="533520" y="1219320"/>
            <a:chExt cx="4367160" cy="497880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654120" y="174780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3687840" y="174780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33520" y="498492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tretch/>
          </p:blipFill>
          <p:spPr>
            <a:xfrm>
              <a:off x="3808440" y="4944960"/>
              <a:ext cx="109224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2475000" y="3438360"/>
              <a:ext cx="615960" cy="84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7" name=""/>
            <p:cNvCxnSpPr>
              <a:stCxn id="322" idx="2"/>
              <a:endCxn id="326" idx="1"/>
            </p:cNvCxnSpPr>
            <p:nvPr/>
          </p:nvCxnSpPr>
          <p:spPr>
            <a:xfrm>
              <a:off x="1199880" y="2631600"/>
              <a:ext cx="1275480" cy="122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4" idx="0"/>
              <a:endCxn id="326" idx="1"/>
            </p:cNvCxnSpPr>
            <p:nvPr/>
          </p:nvCxnSpPr>
          <p:spPr>
            <a:xfrm flipV="1">
              <a:off x="1079640" y="3860640"/>
              <a:ext cx="1395720" cy="11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9" name=""/>
            <p:cNvCxnSpPr>
              <a:stCxn id="323" idx="2"/>
              <a:endCxn id="326" idx="3"/>
            </p:cNvCxnSpPr>
            <p:nvPr/>
          </p:nvCxnSpPr>
          <p:spPr>
            <a:xfrm flipH="1">
              <a:off x="3090600" y="2631600"/>
              <a:ext cx="1141920" cy="122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"/>
            <p:cNvCxnSpPr>
              <a:stCxn id="325" idx="0"/>
              <a:endCxn id="326" idx="3"/>
            </p:cNvCxnSpPr>
            <p:nvPr/>
          </p:nvCxnSpPr>
          <p:spPr>
            <a:xfrm flipH="1" flipV="1">
              <a:off x="3090600" y="3860640"/>
              <a:ext cx="1264320" cy="10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2" idx="3"/>
              <a:endCxn id="323" idx="1"/>
            </p:cNvCxnSpPr>
            <p:nvPr/>
          </p:nvCxnSpPr>
          <p:spPr>
            <a:xfrm>
              <a:off x="1746000" y="2189160"/>
              <a:ext cx="1942200" cy="2160"/>
            </a:xfrm>
            <a:prstGeom prst="straightConnector1">
              <a:avLst/>
            </a:prstGeom>
            <a:ln w="414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332" name=""/>
            <p:cNvSpPr/>
            <p:nvPr/>
          </p:nvSpPr>
          <p:spPr>
            <a:xfrm>
              <a:off x="655560" y="1219320"/>
              <a:ext cx="5857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87840" y="1219320"/>
              <a:ext cx="660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40200" y="5869080"/>
              <a:ext cx="6253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600" y="5869080"/>
              <a:ext cx="626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257800" y="2819520"/>
            <a:ext cx="3614760" cy="1646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e transfer is decentralized, but locating content is highly  cent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is a class of applications t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 advantage of resour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storage, cycles, content, human presence – available at the edges of the Internet. Because accessing the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sources means operating in an environment of unstable and unpredictable IP addresses P2P nodes must operate outside the DNS system and have significant, or  total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y from central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6708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per-node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bandwidth u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rt location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success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sc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pyright infrin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81480" y="439092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238880" y="4362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387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344" name=""/>
          <p:cNvCxnSpPr>
            <a:stCxn id="339" idx="2"/>
            <a:endCxn id="343" idx="1"/>
          </p:cNvCxnSpPr>
          <p:nvPr/>
        </p:nvCxnSpPr>
        <p:spPr>
          <a:xfrm>
            <a:off x="5600880" y="2695680"/>
            <a:ext cx="800640" cy="8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5" name=""/>
          <p:cNvCxnSpPr>
            <a:stCxn id="341" idx="0"/>
            <a:endCxn id="343" idx="1"/>
          </p:cNvCxnSpPr>
          <p:nvPr/>
        </p:nvCxnSpPr>
        <p:spPr>
          <a:xfrm flipV="1">
            <a:off x="5524560" y="3579120"/>
            <a:ext cx="87696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6" name=""/>
          <p:cNvCxnSpPr>
            <a:stCxn id="340" idx="2"/>
            <a:endCxn id="343" idx="3"/>
          </p:cNvCxnSpPr>
          <p:nvPr/>
        </p:nvCxnSpPr>
        <p:spPr>
          <a:xfrm flipH="1">
            <a:off x="6787800" y="2695680"/>
            <a:ext cx="717840" cy="8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7" name=""/>
          <p:cNvCxnSpPr>
            <a:stCxn id="342" idx="0"/>
            <a:endCxn id="343" idx="3"/>
          </p:cNvCxnSpPr>
          <p:nvPr/>
        </p:nvCxnSpPr>
        <p:spPr>
          <a:xfrm flipH="1" flipV="1">
            <a:off x="6787440" y="3580920"/>
            <a:ext cx="79452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8" name=""/>
          <p:cNvCxnSpPr>
            <a:stCxn id="339" idx="3"/>
            <a:endCxn id="340" idx="1"/>
          </p:cNvCxnSpPr>
          <p:nvPr/>
        </p:nvCxnSpPr>
        <p:spPr>
          <a:xfrm>
            <a:off x="5943240" y="2376000"/>
            <a:ext cx="1221480" cy="2520"/>
          </a:xfrm>
          <a:prstGeom prst="straightConnector1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5259240" y="1676520"/>
            <a:ext cx="585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1676520"/>
            <a:ext cx="660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26360" y="5029200"/>
            <a:ext cx="6253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91920" y="5029200"/>
            <a:ext cx="626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34800" y="1660320"/>
            <a:ext cx="7685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for sharing files over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“disruptive” application/technolog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5/9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awn Fanning (freshman, Northeasten U.) founds Napster Online music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2/9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irst lawsu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/0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%  UWisc traffic Nap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00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st. 60M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/0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US Circuit Court of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eals: Napster knew us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olating copyright law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7/01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# simultaneous online us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pster 160K, Gnutella: 40K, Morpheus: 300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11880" y="3325680"/>
            <a:ext cx="290520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: how does it wor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-level, client-server protocol over point-to-point TC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ste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 to Napster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load your list of files (push) to ser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erver keywords to search the full list wi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of correct answers. (ping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flipV="1">
            <a:off x="5838840" y="3103560"/>
            <a:ext cx="133200" cy="106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82000" y="17035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4000" y="493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V="1">
            <a:off x="4114800" y="3093840"/>
            <a:ext cx="1533600" cy="39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6294240" y="3093840"/>
            <a:ext cx="1022040" cy="5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15920" y="1762200"/>
            <a:ext cx="20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e list is up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823000" y="2016000"/>
            <a:ext cx="617400" cy="1038240"/>
            <a:chOff x="5823000" y="2016000"/>
            <a:chExt cx="617400" cy="1038240"/>
          </a:xfrm>
        </p:grpSpPr>
        <p:sp>
          <p:nvSpPr>
            <p:cNvPr id="369" name=""/>
            <p:cNvSpPr/>
            <p:nvPr/>
          </p:nvSpPr>
          <p:spPr>
            <a:xfrm>
              <a:off x="5823000" y="281448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35840" y="202248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6240" y="2249640"/>
              <a:ext cx="39024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23000" y="201600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8960" y="203184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215040" y="2814480"/>
              <a:ext cx="22536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75200" y="2354400"/>
              <a:ext cx="258840" cy="460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13360" y="2494080"/>
              <a:ext cx="1969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73120" y="179388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flipV="1">
            <a:off x="5838840" y="3103560"/>
            <a:ext cx="133200" cy="106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695920" y="3150720"/>
            <a:ext cx="13356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68560" y="2941560"/>
            <a:ext cx="95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006560" y="1700280"/>
            <a:ext cx="179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  requests search at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97440" y="2090880"/>
            <a:ext cx="619200" cy="1038240"/>
            <a:chOff x="5797440" y="2090880"/>
            <a:chExt cx="619200" cy="1038240"/>
          </a:xfrm>
        </p:grpSpPr>
        <p:sp>
          <p:nvSpPr>
            <p:cNvPr id="389" name=""/>
            <p:cNvSpPr/>
            <p:nvPr/>
          </p:nvSpPr>
          <p:spPr>
            <a:xfrm>
              <a:off x="5797440" y="2889360"/>
              <a:ext cx="617760" cy="239760"/>
            </a:xfrm>
            <a:prstGeom prst="parallelogram">
              <a:avLst>
                <a:gd name="adj" fmla="val 9925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0280" y="209700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00680" y="2324160"/>
              <a:ext cx="39060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7440" y="2090880"/>
              <a:ext cx="617760" cy="239400"/>
            </a:xfrm>
            <a:prstGeom prst="parallelogram">
              <a:avLst>
                <a:gd name="adj" fmla="val 99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5200" y="210816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189840" y="288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50000" y="2428920"/>
              <a:ext cx="26028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88160" y="2568600"/>
              <a:ext cx="19656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65200" y="17240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29040" y="4300560"/>
            <a:ext cx="77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86360" y="3562200"/>
            <a:ext cx="121896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43520" y="3797280"/>
            <a:ext cx="1152360" cy="733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6332400" y="3486240"/>
            <a:ext cx="122256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437160" y="3543480"/>
            <a:ext cx="1298880" cy="942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1200" y="4056120"/>
            <a:ext cx="77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61920" y="1757160"/>
            <a:ext cx="2509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pings hosts that apparently hav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s for best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772240" y="2089080"/>
            <a:ext cx="619200" cy="1038240"/>
            <a:chOff x="5772240" y="2089080"/>
            <a:chExt cx="619200" cy="1038240"/>
          </a:xfrm>
        </p:grpSpPr>
        <p:sp>
          <p:nvSpPr>
            <p:cNvPr id="412" name=""/>
            <p:cNvSpPr/>
            <p:nvPr/>
          </p:nvSpPr>
          <p:spPr>
            <a:xfrm>
              <a:off x="5772240" y="288756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84720" y="2095560"/>
              <a:ext cx="28440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75480" y="2322360"/>
              <a:ext cx="390240" cy="79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2240" y="208908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89640" y="2104920"/>
              <a:ext cx="180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164280" y="2887560"/>
              <a:ext cx="22536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24440" y="2427120"/>
              <a:ext cx="25884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2600" y="2567160"/>
              <a:ext cx="1969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73040" y="172404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18800" y="4425840"/>
            <a:ext cx="1172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tr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86360" y="3562200"/>
            <a:ext cx="12189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17960" y="3760920"/>
            <a:ext cx="1152360" cy="733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920880" y="1835280"/>
            <a:ext cx="24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retrieve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73680" y="2090880"/>
            <a:ext cx="619200" cy="1038240"/>
            <a:chOff x="5773680" y="2090880"/>
            <a:chExt cx="619200" cy="1038240"/>
          </a:xfrm>
        </p:grpSpPr>
        <p:sp>
          <p:nvSpPr>
            <p:cNvPr id="432" name=""/>
            <p:cNvSpPr/>
            <p:nvPr/>
          </p:nvSpPr>
          <p:spPr>
            <a:xfrm>
              <a:off x="5773680" y="2889360"/>
              <a:ext cx="617760" cy="239760"/>
            </a:xfrm>
            <a:prstGeom prst="parallelogram">
              <a:avLst>
                <a:gd name="adj" fmla="val 9925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86520" y="209700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76920" y="2324160"/>
              <a:ext cx="39060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73680" y="2090880"/>
              <a:ext cx="617760" cy="239400"/>
            </a:xfrm>
            <a:prstGeom prst="parallelogram">
              <a:avLst>
                <a:gd name="adj" fmla="val 99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91440" y="210816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165360" y="2889360"/>
              <a:ext cx="225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26240" y="2428920"/>
              <a:ext cx="26028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4400" y="2568600"/>
              <a:ext cx="19656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6040" y="1839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Napster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ensure correct 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leneck for sca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sceptible to denial of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wsuits, legis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Hybrid P2P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“all peers are equal but some are more equal than other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rch is centrali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transfer is direct (peer-to-pe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y distribu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ntra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by Gnu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ndexes the files it makes available for sharing (and no other fil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495680" y="1503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lay network: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between peer X and Y if there’s a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ctive peers and edges form overlay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: virtual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hysical)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peer typically connected with &lt; 10 overlay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: Query flood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340000" y="1449360"/>
            <a:ext cx="6248520" cy="5129280"/>
            <a:chOff x="2340000" y="1449360"/>
            <a:chExt cx="6248520" cy="512928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2340000" y="42051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4549680" y="60339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4549680" y="42051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4549680" y="2300400"/>
              <a:ext cx="6858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7902720" y="4129200"/>
              <a:ext cx="6858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6"/>
            <a:stretch/>
          </p:blipFill>
          <p:spPr>
            <a:xfrm>
              <a:off x="7902720" y="222408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flipV="1">
              <a:off x="2873520" y="2755440"/>
              <a:ext cx="1752480" cy="14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9520" y="2452680"/>
              <a:ext cx="2819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480" y="2681280"/>
              <a:ext cx="2743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49480" y="4586400"/>
              <a:ext cx="167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024000" y="4433760"/>
              <a:ext cx="160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49480" y="4662360"/>
              <a:ext cx="1828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60400" y="4129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32160" y="4510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27280" y="21477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60000">
              <a:off x="6338520" y="3201480"/>
              <a:ext cx="8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27640" y="2529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9320000">
              <a:off x="3255120" y="3139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160000">
              <a:off x="3483720" y="53463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47680" y="2757600"/>
              <a:ext cx="1832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9380000">
              <a:off x="3479760" y="351756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30440" y="1449360"/>
              <a:ext cx="5600880" cy="2755800"/>
            </a:xfrm>
            <a:custGeom>
              <a:avLst/>
              <a:gdLst/>
              <a:ahLst/>
              <a:rect l="l" t="t" r="r" b="b"/>
              <a:pathLst>
                <a:path w="3528" h="1736">
                  <a:moveTo>
                    <a:pt x="3528" y="536"/>
                  </a:moveTo>
                  <a:cubicBezTo>
                    <a:pt x="3352" y="424"/>
                    <a:pt x="3176" y="312"/>
                    <a:pt x="2856" y="248"/>
                  </a:cubicBezTo>
                  <a:cubicBezTo>
                    <a:pt x="2536" y="184"/>
                    <a:pt x="2040" y="0"/>
                    <a:pt x="1608" y="152"/>
                  </a:cubicBezTo>
                  <a:cubicBezTo>
                    <a:pt x="1176" y="304"/>
                    <a:pt x="528" y="896"/>
                    <a:pt x="264" y="1160"/>
                  </a:cubicBezTo>
                  <a:cubicBezTo>
                    <a:pt x="0" y="1424"/>
                    <a:pt x="64" y="1640"/>
                    <a:pt x="24" y="173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233680" y="2604960"/>
              <a:ext cx="274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270480" y="1014480"/>
            <a:ext cx="1982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transf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680" y="1146240"/>
            <a:ext cx="33444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mes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over existing TC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forw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H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r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rib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 architecture may be called a P2P network if the participants share a part of their own resources. The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ared resour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necessary to provide the service offered by the network. The participants of such a network are both resource providers and resource consume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: Peer joi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ing peer Alice must find another peer in Gnutella network: use list of candidate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quentially attempts TCP connections with candidate peers until connection setup with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Flood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ice sends Ping message to Bob; Bob forwards Ping message to his overlay neighbors (who then forward to their neighbors…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2960" indent="-4557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receiving Ping message respond to Alice with Pong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receives many Pong messages, and can then setup additional TCP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2120" y="1295280"/>
            <a:ext cx="5105160" cy="4796280"/>
            <a:chOff x="762120" y="1295280"/>
            <a:chExt cx="5105160" cy="479628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2390760" y="362124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762120" y="495144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3693960" y="1816200"/>
              <a:ext cx="97812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871560" y="172080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5"/>
            <a:stretch/>
          </p:blipFill>
          <p:spPr>
            <a:xfrm>
              <a:off x="4889520" y="457200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82" name=""/>
            <p:cNvCxnSpPr>
              <a:stCxn id="477" idx="1"/>
              <a:endCxn id="480" idx="2"/>
            </p:cNvCxnSpPr>
            <p:nvPr/>
          </p:nvCxnSpPr>
          <p:spPr>
            <a:xfrm flipH="1" flipV="1">
              <a:off x="1358640" y="2515680"/>
              <a:ext cx="1031040" cy="150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3" name=""/>
            <p:cNvCxnSpPr>
              <a:stCxn id="477" idx="1"/>
              <a:endCxn id="478" idx="0"/>
            </p:cNvCxnSpPr>
            <p:nvPr/>
          </p:nvCxnSpPr>
          <p:spPr>
            <a:xfrm flipH="1">
              <a:off x="1250640" y="4019040"/>
              <a:ext cx="1140480" cy="93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4" name=""/>
            <p:cNvCxnSpPr>
              <a:stCxn id="477" idx="0"/>
              <a:endCxn id="479" idx="1"/>
            </p:cNvCxnSpPr>
            <p:nvPr/>
          </p:nvCxnSpPr>
          <p:spPr>
            <a:xfrm flipV="1">
              <a:off x="2879640" y="2212560"/>
              <a:ext cx="815040" cy="140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5" name=""/>
            <p:cNvCxnSpPr>
              <a:stCxn id="479" idx="3"/>
              <a:endCxn id="481" idx="0"/>
            </p:cNvCxnSpPr>
            <p:nvPr/>
          </p:nvCxnSpPr>
          <p:spPr>
            <a:xfrm>
              <a:off x="4672080" y="2212560"/>
              <a:ext cx="707040" cy="235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6" name=""/>
            <p:cNvCxnSpPr>
              <a:stCxn id="477" idx="3"/>
              <a:endCxn id="481" idx="1"/>
            </p:cNvCxnSpPr>
            <p:nvPr/>
          </p:nvCxnSpPr>
          <p:spPr>
            <a:xfrm>
              <a:off x="3368160" y="4019400"/>
              <a:ext cx="1521720" cy="951840"/>
            </a:xfrm>
            <a:prstGeom prst="straightConnector1">
              <a:avLst/>
            </a:prstGeom>
            <a:ln w="414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2502000" y="4432320"/>
              <a:ext cx="5857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89520" y="5477040"/>
              <a:ext cx="660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03680" y="1390680"/>
              <a:ext cx="6253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2200" y="5762520"/>
              <a:ext cx="626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70120" y="1295280"/>
              <a:ext cx="5979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388560" y="1523880"/>
            <a:ext cx="2088720" cy="1267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sco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nutella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ed 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bandwidth  u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 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guarantee on succe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095880" y="3541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952880" y="46083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7010280" y="2093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5029200" y="20178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7848720" y="4303800"/>
            <a:ext cx="685800" cy="637920"/>
          </a:xfrm>
          <a:prstGeom prst="rect">
            <a:avLst/>
          </a:prstGeom>
          <a:ln w="0">
            <a:noFill/>
          </a:ln>
        </p:spPr>
      </p:pic>
      <p:cxnSp>
        <p:nvCxnSpPr>
          <p:cNvPr id="500" name=""/>
          <p:cNvCxnSpPr>
            <a:stCxn id="495" idx="1"/>
            <a:endCxn id="498" idx="2"/>
          </p:cNvCxnSpPr>
          <p:nvPr/>
        </p:nvCxnSpPr>
        <p:spPr>
          <a:xfrm flipH="1" flipV="1">
            <a:off x="5371920" y="2653560"/>
            <a:ext cx="724320" cy="12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1" name=""/>
          <p:cNvCxnSpPr>
            <a:stCxn id="495" idx="1"/>
            <a:endCxn id="496" idx="0"/>
          </p:cNvCxnSpPr>
          <p:nvPr/>
        </p:nvCxnSpPr>
        <p:spPr>
          <a:xfrm flipH="1">
            <a:off x="5295600" y="3860280"/>
            <a:ext cx="800640" cy="74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2" name=""/>
          <p:cNvCxnSpPr>
            <a:stCxn id="495" idx="0"/>
            <a:endCxn id="497" idx="1"/>
          </p:cNvCxnSpPr>
          <p:nvPr/>
        </p:nvCxnSpPr>
        <p:spPr>
          <a:xfrm flipV="1">
            <a:off x="6438600" y="2412360"/>
            <a:ext cx="572040" cy="11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3" name=""/>
          <p:cNvCxnSpPr>
            <a:stCxn id="497" idx="3"/>
            <a:endCxn id="499" idx="0"/>
          </p:cNvCxnSpPr>
          <p:nvPr/>
        </p:nvCxnSpPr>
        <p:spPr>
          <a:xfrm>
            <a:off x="7696080" y="241308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"/>
          <p:cNvCxnSpPr>
            <a:stCxn id="495" idx="3"/>
            <a:endCxn id="499" idx="1"/>
          </p:cNvCxnSpPr>
          <p:nvPr/>
        </p:nvCxnSpPr>
        <p:spPr>
          <a:xfrm>
            <a:off x="6781680" y="3860640"/>
            <a:ext cx="1069200" cy="764640"/>
          </a:xfrm>
          <a:prstGeom prst="straightConnector1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6173640" y="4191120"/>
            <a:ext cx="585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48720" y="5029200"/>
            <a:ext cx="660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20000" y="1752480"/>
            <a:ext cx="6253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63320" y="5257800"/>
            <a:ext cx="626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1676520"/>
            <a:ext cx="5979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6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rching by </a:t>
            </a:r>
            <a:r>
              <a:rPr b="0" lang="en-US" sz="1800" spc="-1" strike="noStrike">
                <a:solidFill>
                  <a:srgbClr val="ccccff"/>
                </a:solidFill>
                <a:latin typeface="Comic Sans MS"/>
              </a:rPr>
              <a:t>flood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don’t have the file you want, query 7 of your neighbo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y don’t have it, they contact 7 of their neighbors, for a maximum hop count of 1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s are flooded, but there is no tree structu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looping but packets may be received twi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verse path forwar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09480" y="6324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Figure from http://computer.howstuffworks.com/file-sharing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800" y="3141720"/>
            <a:ext cx="89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ool.*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39720" y="40305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 flipV="1">
            <a:off x="1258920" y="3282480"/>
            <a:ext cx="504720" cy="4352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32000" y="4221000"/>
            <a:ext cx="431640" cy="4320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32000" y="3933720"/>
            <a:ext cx="647640" cy="18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684240" y="37893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6960" y="58770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2480" y="2276640"/>
            <a:ext cx="14302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ahoma"/>
                <a:ea typeface="Arial"/>
              </a:rPr>
              <a:t>X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  <a:ea typeface="Arial"/>
              </a:rPr>
              <a:t>:fool.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32000" y="1484280"/>
            <a:ext cx="719280" cy="7923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ol.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12520" y="161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32000" y="2565360"/>
            <a:ext cx="576360" cy="1429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71640" y="2852640"/>
            <a:ext cx="71640" cy="3603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16360" y="4292640"/>
            <a:ext cx="1440" cy="5047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4076640"/>
            <a:ext cx="503280" cy="2160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916360" y="5083200"/>
            <a:ext cx="1440" cy="434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203640" y="5443560"/>
            <a:ext cx="431640" cy="218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76720" y="5732280"/>
            <a:ext cx="574560" cy="745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841480" y="3355560"/>
            <a:ext cx="76320" cy="2905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276720" y="3571920"/>
            <a:ext cx="358560" cy="218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82760" y="27813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049120" y="2708280"/>
            <a:ext cx="436680" cy="36036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7885080" y="4292640"/>
            <a:ext cx="719280" cy="79200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28000" y="4797360"/>
            <a:ext cx="720720" cy="863640"/>
          </a:xfrm>
          <a:prstGeom prst="foldedCorner">
            <a:avLst>
              <a:gd name="adj" fmla="val 125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ol.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88240" y="443700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fool.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59920" y="45813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84240" y="5823000"/>
            <a:ext cx="1672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b2b2b2"/>
                </a:solidFill>
                <a:latin typeface="Tahom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fool.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  <a:ea typeface="Arial"/>
              </a:rPr>
              <a:t>fool.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370560" y="5445000"/>
            <a:ext cx="650880" cy="716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860040" y="5950080"/>
            <a:ext cx="1672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b2b2b2"/>
                </a:solidFill>
                <a:latin typeface="Tahom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fool.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  <a:ea typeface="Arial"/>
              </a:rPr>
              <a:t>fool.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2266920" y="5155920"/>
            <a:ext cx="362160" cy="361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nutella: strengths and weaknes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exibility in query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decentr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ce/self-orga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e scalability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ceptible to att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Pure P2P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nutella: initial problems and fix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: avg size of reachable network only 400-800 hosts. Why so sm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m us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ot enough bandwidth to provide search routing capabilities: routing black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x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reate peer hierarchy based on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ly: all peers identical, most modem black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tial connec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vors routing to well-connected pe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vors reply to clients that themselves serve large number of files: prevent freeloa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definitions seem to agree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communication between equals (pe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entralized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Net, Chord, CAN, Tapestry, Pastry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095880" y="3313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4952880" y="4379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7010280" y="18651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"/>
          <a:stretch/>
        </p:blipFill>
        <p:spPr>
          <a:xfrm>
            <a:off x="5029200" y="17892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7848720" y="4075200"/>
            <a:ext cx="685800" cy="6379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5120640" y="152388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50960" y="15764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90840" y="378612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93560" y="40910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79360" y="34052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09" idx="0"/>
            <a:endCxn id="711" idx="2"/>
          </p:cNvCxnSpPr>
          <p:nvPr/>
        </p:nvCxnSpPr>
        <p:spPr>
          <a:xfrm flipV="1">
            <a:off x="6438960" y="2502720"/>
            <a:ext cx="91512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1" idx="2"/>
            <a:endCxn id="713" idx="1"/>
          </p:cNvCxnSpPr>
          <p:nvPr/>
        </p:nvCxnSpPr>
        <p:spPr>
          <a:xfrm>
            <a:off x="7353360" y="250344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"/>
          <p:cNvSpPr/>
          <p:nvPr/>
        </p:nvSpPr>
        <p:spPr>
          <a:xfrm>
            <a:off x="6196320" y="26668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67920" y="28954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781680" y="3657600"/>
            <a:ext cx="1067040" cy="76212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1936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Net, Chord, CAN, Tapestry, Pastry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able 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able bandwidth usage and 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d su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er to support fault tole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6095880" y="3313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4952880" y="4379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7010280" y="18651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5029200" y="17892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7848720" y="4075200"/>
            <a:ext cx="685800" cy="6379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5120640" y="152388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50960" y="15764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90840" y="378612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93560" y="40910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79360" y="34052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26" idx="0"/>
            <a:endCxn id="728" idx="2"/>
          </p:cNvCxnSpPr>
          <p:nvPr/>
        </p:nvCxnSpPr>
        <p:spPr>
          <a:xfrm flipV="1">
            <a:off x="6438960" y="2502720"/>
            <a:ext cx="91512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28" idx="2"/>
            <a:endCxn id="730" idx="1"/>
          </p:cNvCxnSpPr>
          <p:nvPr/>
        </p:nvCxnSpPr>
        <p:spPr>
          <a:xfrm>
            <a:off x="7353360" y="250344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6196320" y="26668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67920" y="28954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3657600"/>
            <a:ext cx="1067040" cy="76212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33520" y="1425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 vs Structured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stems we described do not offer any guarantees about their performance (or even correctnes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ctu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2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le guarantees on numbers of hops to answer a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 all other P2P properties (load balance, self-organization, dynamic natu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ach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ributed Hash Tab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D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ributed Hash Tables (DHT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version of a hash table data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s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like a file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n be file contents, or pointer to lo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Efficiently insert/lookup/delete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eer stores a subset of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 in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e operation:  Find node responsible for a 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p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tly route insert/lookup/delete request to thi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for frequent node arrivals/depar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HT Desirable Propert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s should mapped evenly to all nodes in the network (load bal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node should maintain information about only a few other nodes (scalability, low update co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s should be routed to a node efficiently (small number of ho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de arrival/departures should only affect a few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HT Routing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HT is a generic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several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implement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is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rd [MIT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stry [Microsoft Research UK, Rice Universit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pestry [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t Addressable Network (CAN) [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ipNet [Microsoft Research US, Univ. of Washington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demlia [New York Universit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ceroy [Israel, 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-Grid [EPFL Switzerland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enet [Ian Clarke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Approa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approach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ssociated with globally uniqu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ers of size m (for large 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y 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 (search space) is uniformly populated - mapping of keys to IDs using (consistent) has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de is responsible for indexing all the keys in a certain subspace (zone) of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have only partial knowledge of other node’s responsi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mprovements: Super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ZaA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brid centralized and unstructu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and disadvantag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36576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38098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43000" y="3581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51814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4956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722840" y="4724280"/>
            <a:ext cx="689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39625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3809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523880" y="4188960"/>
            <a:ext cx="76212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45720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676520" y="4417560"/>
            <a:ext cx="7617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9000" y="6324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657600" y="6018120"/>
            <a:ext cx="2286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6324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570200" y="6018120"/>
            <a:ext cx="23148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629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324480" y="4037040"/>
            <a:ext cx="8384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4956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24480" y="4419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0" y="5181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172200" y="4648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ver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316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centralized index, query flooding approa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s either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per n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assigned to a sup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 between peer and its super no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s between some pairs of super nod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 node tracks content in  its childr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Kazaa (Fasttrack network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brid of centralized Napster and decentralized Gnute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brid P2P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-peers act as local search hu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super-peer is similar to a Napster server for a small portion of the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-peers are automatically chosen by the system based on their capacities (storage, bandwidth, etc.) and availability (connection tim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upload their list of files to a super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-peers periodically exchange file li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send queries to a super-peer for files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a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825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“…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an entity with capabilities similar to other entities in the system.”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: Server-Client vs P2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4760" y="12268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How much time to distribute file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2373480" y="4032360"/>
            <a:ext cx="3774960" cy="21463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552680" y="3181320"/>
            <a:ext cx="539640" cy="885960"/>
            <a:chOff x="1552680" y="3181320"/>
            <a:chExt cx="539640" cy="885960"/>
          </a:xfrm>
        </p:grpSpPr>
        <p:sp>
          <p:nvSpPr>
            <p:cNvPr id="785" name=""/>
            <p:cNvSpPr/>
            <p:nvPr/>
          </p:nvSpPr>
          <p:spPr>
            <a:xfrm>
              <a:off x="1552680" y="3862440"/>
              <a:ext cx="538200" cy="204840"/>
            </a:xfrm>
            <a:prstGeom prst="parallelogram">
              <a:avLst>
                <a:gd name="adj" fmla="val 1012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25560" y="3187800"/>
              <a:ext cx="247680" cy="679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55920" y="3379680"/>
              <a:ext cx="341280" cy="681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52680" y="3181320"/>
              <a:ext cx="538200" cy="204840"/>
            </a:xfrm>
            <a:prstGeom prst="parallelogram">
              <a:avLst>
                <a:gd name="adj" fmla="val 1012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90880" y="3195720"/>
              <a:ext cx="144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1893600" y="3862440"/>
              <a:ext cx="1969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98760" y="3470400"/>
              <a:ext cx="22536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1880" y="3587760"/>
              <a:ext cx="171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86280" y="37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191040" y="2817720"/>
          <a:ext cx="54756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2817720"/>
                    <a:ext cx="547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3551400" y="32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3346560" y="3203640"/>
            <a:ext cx="231840" cy="89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84640" y="34401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9244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4614840" y="2784600"/>
          <a:ext cx="5731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2784600"/>
                    <a:ext cx="573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"/>
          <p:cNvSpPr/>
          <p:nvPr/>
        </p:nvSpPr>
        <p:spPr>
          <a:xfrm flipV="1">
            <a:off x="4397400" y="3241800"/>
            <a:ext cx="3175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586400" y="3322800"/>
            <a:ext cx="333360" cy="10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22840" y="3625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3992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57520" y="560880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60600" y="59230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33640" y="613080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52920" y="624852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54720" y="633564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58080" y="60897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72280" y="54165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48240" y="39862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8240" y="482112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846000" y="4734000"/>
          <a:ext cx="56700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734000"/>
                    <a:ext cx="567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1376280" y="4962600"/>
            <a:ext cx="10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30280" y="5110200"/>
            <a:ext cx="10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65280" y="5108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68520" y="4511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442880" y="27972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45040" y="473076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00000" y="317664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280" y="403056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, siz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1680" y="23004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er up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78680" y="301932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er i up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05680" y="37638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er i down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 time: server-clien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5264280" y="1650960"/>
            <a:ext cx="357120" cy="692280"/>
            <a:chOff x="5264280" y="1650960"/>
            <a:chExt cx="357120" cy="692280"/>
          </a:xfrm>
        </p:grpSpPr>
        <p:sp>
          <p:nvSpPr>
            <p:cNvPr id="832" name=""/>
            <p:cNvSpPr/>
            <p:nvPr/>
          </p:nvSpPr>
          <p:spPr>
            <a:xfrm>
              <a:off x="5264280" y="2182680"/>
              <a:ext cx="355320" cy="160560"/>
            </a:xfrm>
            <a:prstGeom prst="parallelogram">
              <a:avLst>
                <a:gd name="adj" fmla="val 8525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3560" y="1655640"/>
              <a:ext cx="163440" cy="532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65720" y="1806480"/>
              <a:ext cx="22536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64280" y="1650960"/>
              <a:ext cx="355320" cy="160200"/>
            </a:xfrm>
            <a:prstGeom prst="parallelogram">
              <a:avLst>
                <a:gd name="adj" fmla="val 85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19600" y="1662120"/>
              <a:ext cx="180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487840" y="2182680"/>
              <a:ext cx="1317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94160" y="1876320"/>
              <a:ext cx="14940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16480" y="1968480"/>
              <a:ext cx="11268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6449760" y="1668600"/>
            <a:ext cx="153720" cy="69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 flipV="1">
            <a:off x="7145280" y="1698120"/>
            <a:ext cx="21132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270560" y="1762200"/>
            <a:ext cx="22212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146560" y="3043080"/>
            <a:ext cx="67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181480" y="3159000"/>
            <a:ext cx="66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40640" y="26258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760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sequentially sends N cop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F/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i takes F/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to 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986360" y="5332320"/>
            <a:ext cx="430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07920" y="5923080"/>
            <a:ext cx="3318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s linearly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or large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31920" y="4048200"/>
            <a:ext cx="8369280" cy="1798560"/>
            <a:chOff x="331920" y="4048200"/>
            <a:chExt cx="8369280" cy="1798560"/>
          </a:xfrm>
        </p:grpSpPr>
        <p:sp>
          <p:nvSpPr>
            <p:cNvPr id="875" name=""/>
            <p:cNvSpPr/>
            <p:nvPr/>
          </p:nvSpPr>
          <p:spPr>
            <a:xfrm>
              <a:off x="7248600" y="404820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845480" y="411624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048920" y="4838760"/>
              <a:ext cx="4303440" cy="716400"/>
              <a:chOff x="4048920" y="4838760"/>
              <a:chExt cx="4303440" cy="716400"/>
            </a:xfrm>
          </p:grpSpPr>
          <p:sp>
            <p:nvSpPr>
              <p:cNvPr id="878" name=""/>
              <p:cNvSpPr/>
              <p:nvPr/>
            </p:nvSpPr>
            <p:spPr>
              <a:xfrm>
                <a:off x="4048920" y="4838760"/>
                <a:ext cx="430344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343080"/>
                    <a:tab algn="l" pos="1257480"/>
                    <a:tab algn="l" pos="2171880"/>
                    <a:tab algn="l" pos="3086280"/>
                    <a:tab algn="l" pos="4000680"/>
                    <a:tab algn="l" pos="4915080"/>
                    <a:tab algn="l" pos="5829480"/>
                    <a:tab algn="l" pos="6743880"/>
                    <a:tab algn="l" pos="7658280"/>
                    <a:tab algn="l" pos="8572680"/>
                    <a:tab algn="l" pos="9487080"/>
                    <a:tab algn="l" pos="10401480"/>
                    <a:tab algn="l" pos="1051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= 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c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= max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{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F/u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, F/min(d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375320" y="51562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343080"/>
                    <a:tab algn="l" pos="1257480"/>
                    <a:tab algn="l" pos="2171880"/>
                    <a:tab algn="l" pos="3086280"/>
                    <a:tab algn="l" pos="4000680"/>
                    <a:tab algn="l" pos="4915080"/>
                    <a:tab algn="l" pos="5829480"/>
                    <a:tab algn="l" pos="6743880"/>
                    <a:tab algn="l" pos="7658280"/>
                    <a:tab algn="l" pos="8572680"/>
                    <a:tab algn="l" pos="9487080"/>
                    <a:tab algn="l" pos="10401480"/>
                    <a:tab algn="l" pos="105156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23080" y="4584600"/>
              <a:ext cx="34894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ime to  distribu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clients us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/server approa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1920" y="4349880"/>
              <a:ext cx="8369280" cy="1496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 time: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264280" y="1650960"/>
            <a:ext cx="357120" cy="692280"/>
            <a:chOff x="5264280" y="1650960"/>
            <a:chExt cx="357120" cy="692280"/>
          </a:xfrm>
        </p:grpSpPr>
        <p:sp>
          <p:nvSpPr>
            <p:cNvPr id="885" name=""/>
            <p:cNvSpPr/>
            <p:nvPr/>
          </p:nvSpPr>
          <p:spPr>
            <a:xfrm>
              <a:off x="5264280" y="2182680"/>
              <a:ext cx="355320" cy="160560"/>
            </a:xfrm>
            <a:prstGeom prst="parallelogram">
              <a:avLst>
                <a:gd name="adj" fmla="val 8525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43560" y="1655640"/>
              <a:ext cx="163440" cy="532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65720" y="1806480"/>
              <a:ext cx="22536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64280" y="1650960"/>
              <a:ext cx="355320" cy="160200"/>
            </a:xfrm>
            <a:prstGeom prst="parallelogram">
              <a:avLst>
                <a:gd name="adj" fmla="val 85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19600" y="1662120"/>
              <a:ext cx="180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487840" y="2182680"/>
              <a:ext cx="1317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94160" y="1876320"/>
              <a:ext cx="14940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16480" y="1968480"/>
              <a:ext cx="11268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6449760" y="1668600"/>
            <a:ext cx="153720" cy="69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 flipV="1">
            <a:off x="7145280" y="1698120"/>
            <a:ext cx="21132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270560" y="1762200"/>
            <a:ext cx="22212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48600" y="404820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45480" y="41162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5146560" y="3043080"/>
            <a:ext cx="67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5181480" y="3159000"/>
            <a:ext cx="66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40640" y="26258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96864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must send one copy: F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/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i takes F/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 bits must be downloaded (aggrega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801720" y="3973680"/>
            <a:ext cx="6338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est possible upload rate: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150920" y="5318280"/>
            <a:ext cx="7423200" cy="1095120"/>
            <a:chOff x="1150920" y="5318280"/>
            <a:chExt cx="7423200" cy="1095120"/>
          </a:xfrm>
        </p:grpSpPr>
        <p:sp>
          <p:nvSpPr>
            <p:cNvPr id="929" name=""/>
            <p:cNvSpPr/>
            <p:nvPr/>
          </p:nvSpPr>
          <p:spPr>
            <a:xfrm>
              <a:off x="1413000" y="5505480"/>
              <a:ext cx="7161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2P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/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, F/min(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, NF/(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17840" y="587376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54960" y="59119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150920" y="5318280"/>
              <a:ext cx="6829560" cy="10951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298440" y="22860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ver-client vs. P2P: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8960" y="1292400"/>
            <a:ext cx="805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upload rate = u,  F/u = 1 hour,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u,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≥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: BitTorrent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1339920" y="1965240"/>
            <a:ext cx="34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track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cks pe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to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37320" y="1989000"/>
            <a:ext cx="2895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o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exchang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unks of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253880" y="2792520"/>
            <a:ext cx="5397840" cy="3863880"/>
            <a:chOff x="1253880" y="2792520"/>
            <a:chExt cx="5397840" cy="3863880"/>
          </a:xfrm>
        </p:grpSpPr>
        <p:grpSp>
          <p:nvGrpSpPr>
            <p:cNvPr id="941" name=""/>
            <p:cNvGrpSpPr/>
            <p:nvPr/>
          </p:nvGrpSpPr>
          <p:grpSpPr>
            <a:xfrm>
              <a:off x="2171880" y="2814480"/>
              <a:ext cx="537840" cy="771840"/>
              <a:chOff x="2171880" y="2814480"/>
              <a:chExt cx="537840" cy="771840"/>
            </a:xfrm>
          </p:grpSpPr>
          <p:sp>
            <p:nvSpPr>
              <p:cNvPr id="942" name=""/>
              <p:cNvSpPr/>
              <p:nvPr/>
            </p:nvSpPr>
            <p:spPr>
              <a:xfrm>
                <a:off x="2171880" y="3408480"/>
                <a:ext cx="537840" cy="177840"/>
              </a:xfrm>
              <a:prstGeom prst="parallelogram">
                <a:avLst>
                  <a:gd name="adj" fmla="val 116505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444760" y="2819520"/>
                <a:ext cx="247680" cy="591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174760" y="2987640"/>
                <a:ext cx="341280" cy="593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171880" y="2814480"/>
                <a:ext cx="537840" cy="177840"/>
              </a:xfrm>
              <a:prstGeom prst="parallelogram">
                <a:avLst>
                  <a:gd name="adj" fmla="val 116505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708280" y="2827440"/>
                <a:ext cx="144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2513160" y="3408480"/>
                <a:ext cx="19656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17600" y="3065400"/>
                <a:ext cx="225720" cy="341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51080" y="3168720"/>
                <a:ext cx="1713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50" name=""/>
            <p:cNvGraphicFramePr/>
            <p:nvPr/>
          </p:nvGraphicFramePr>
          <p:xfrm>
            <a:off x="2119320" y="4503600"/>
            <a:ext cx="444600" cy="33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9320" y="4503600"/>
                      <a:ext cx="4446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2" name=""/>
            <p:cNvGraphicFramePr/>
            <p:nvPr/>
          </p:nvGraphicFramePr>
          <p:xfrm>
            <a:off x="4000680" y="6176880"/>
            <a:ext cx="44424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00680" y="617688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4" name=""/>
            <p:cNvGraphicFramePr/>
            <p:nvPr/>
          </p:nvGraphicFramePr>
          <p:xfrm>
            <a:off x="2798640" y="5502240"/>
            <a:ext cx="444600" cy="33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8640" y="550224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"/>
            <p:cNvGraphicFramePr/>
            <p:nvPr/>
          </p:nvGraphicFramePr>
          <p:xfrm>
            <a:off x="5132520" y="5897520"/>
            <a:ext cx="444240" cy="33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32520" y="589752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8" name=""/>
            <p:cNvGraphicFramePr/>
            <p:nvPr/>
          </p:nvGraphicFramePr>
          <p:xfrm>
            <a:off x="5859360" y="6326280"/>
            <a:ext cx="44460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9360" y="632628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0" name=""/>
            <p:cNvGraphicFramePr/>
            <p:nvPr/>
          </p:nvGraphicFramePr>
          <p:xfrm>
            <a:off x="6188040" y="4624560"/>
            <a:ext cx="44460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88040" y="462456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2" name=""/>
            <p:cNvGraphicFramePr/>
            <p:nvPr/>
          </p:nvGraphicFramePr>
          <p:xfrm>
            <a:off x="3375000" y="2989440"/>
            <a:ext cx="44460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6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75000" y="298944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4" name=""/>
            <p:cNvGraphicFramePr/>
            <p:nvPr/>
          </p:nvGraphicFramePr>
          <p:xfrm>
            <a:off x="6207120" y="3614760"/>
            <a:ext cx="444600" cy="330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07120" y="361476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"/>
            <p:cNvGraphicFramePr/>
            <p:nvPr/>
          </p:nvGraphicFramePr>
          <p:xfrm>
            <a:off x="5121360" y="2906640"/>
            <a:ext cx="444240" cy="330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6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21360" y="290664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"/>
            <p:cNvSpPr/>
            <p:nvPr/>
          </p:nvSpPr>
          <p:spPr>
            <a:xfrm>
              <a:off x="2346480" y="3598920"/>
              <a:ext cx="1440" cy="91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496960" y="3269880"/>
              <a:ext cx="976320" cy="13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536920" y="3774600"/>
              <a:ext cx="374652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95520" y="4800600"/>
              <a:ext cx="275580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24200" y="3284640"/>
              <a:ext cx="253044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084120" y="3294000"/>
              <a:ext cx="5158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551200" y="3182400"/>
              <a:ext cx="7794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4311720" y="3938760"/>
              <a:ext cx="2031840" cy="22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398840" y="6121440"/>
              <a:ext cx="7430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209400" y="3227400"/>
              <a:ext cx="2057400" cy="23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3224160" y="4843440"/>
              <a:ext cx="30052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65880" y="3206880"/>
              <a:ext cx="9633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27800" y="6145200"/>
              <a:ext cx="3762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13240" y="64389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53880" y="3816360"/>
              <a:ext cx="111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obtain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of peer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33960" y="4494240"/>
              <a:ext cx="93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hu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6076440" y="4954680"/>
              <a:ext cx="3430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5" name="" descr=""/>
            <p:cNvPicPr/>
            <p:nvPr/>
          </p:nvPicPr>
          <p:blipFill>
            <a:blip r:embed="rId19"/>
            <a:stretch/>
          </p:blipFill>
          <p:spPr>
            <a:xfrm>
              <a:off x="1666800" y="4775040"/>
              <a:ext cx="56196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2691360" y="578484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70120" y="2792520"/>
              <a:ext cx="345960" cy="31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614520" y="1415880"/>
            <a:ext cx="398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P fil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12840" y="86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 (1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12760" y="2124000"/>
            <a:ext cx="812016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divided into 256KB 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chun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8920" indent="-2754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no chunks, but will accumulate them over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8920" indent="-2754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ers with tracker to get list of peers, connects to subset of peers (“neighbors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downloading,  peer uploads chunks to other pe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may come and 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peer has entire file, it may (selfishly) leave or (altruistically) re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21320" y="233280"/>
            <a:ext cx="2962440" cy="2881440"/>
            <a:chOff x="5521320" y="233280"/>
            <a:chExt cx="2962440" cy="2881440"/>
          </a:xfrm>
        </p:grpSpPr>
        <p:grpSp>
          <p:nvGrpSpPr>
            <p:cNvPr id="992" name=""/>
            <p:cNvGrpSpPr/>
            <p:nvPr/>
          </p:nvGrpSpPr>
          <p:grpSpPr>
            <a:xfrm>
              <a:off x="5821200" y="233280"/>
              <a:ext cx="320760" cy="577800"/>
              <a:chOff x="5821200" y="233280"/>
              <a:chExt cx="320760" cy="577800"/>
            </a:xfrm>
          </p:grpSpPr>
          <p:sp>
            <p:nvSpPr>
              <p:cNvPr id="993" name=""/>
              <p:cNvSpPr/>
              <p:nvPr/>
            </p:nvSpPr>
            <p:spPr>
              <a:xfrm>
                <a:off x="5821200" y="677880"/>
                <a:ext cx="319320" cy="133200"/>
              </a:xfrm>
              <a:prstGeom prst="parallelogram">
                <a:avLst>
                  <a:gd name="adj" fmla="val 9235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83200" y="236520"/>
                <a:ext cx="147600" cy="444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23000" y="363600"/>
                <a:ext cx="201600" cy="4446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21200" y="23328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140520" y="243000"/>
                <a:ext cx="144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6024600" y="677880"/>
                <a:ext cx="11736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48200" y="422280"/>
                <a:ext cx="135000" cy="25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7280" y="500040"/>
                <a:ext cx="101880" cy="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01" name=""/>
            <p:cNvGraphicFramePr/>
            <p:nvPr/>
          </p:nvGraphicFramePr>
          <p:xfrm>
            <a:off x="5789520" y="1501920"/>
            <a:ext cx="26352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89520" y="150192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3" name=""/>
            <p:cNvGraphicFramePr/>
            <p:nvPr/>
          </p:nvGraphicFramePr>
          <p:xfrm>
            <a:off x="6908760" y="2757600"/>
            <a:ext cx="263520" cy="24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08760" y="27576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5" name=""/>
            <p:cNvGraphicFramePr/>
            <p:nvPr/>
          </p:nvGraphicFramePr>
          <p:xfrm>
            <a:off x="6194520" y="2249640"/>
            <a:ext cx="263520" cy="24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94520" y="2249640"/>
                      <a:ext cx="263520" cy="2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7" name=""/>
            <p:cNvGraphicFramePr/>
            <p:nvPr/>
          </p:nvGraphicFramePr>
          <p:xfrm>
            <a:off x="7580160" y="2546280"/>
            <a:ext cx="263520" cy="247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0160" y="25462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9" name=""/>
            <p:cNvGraphicFramePr/>
            <p:nvPr/>
          </p:nvGraphicFramePr>
          <p:xfrm>
            <a:off x="8012160" y="2867040"/>
            <a:ext cx="26352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12160" y="286704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1" name=""/>
            <p:cNvGraphicFramePr/>
            <p:nvPr/>
          </p:nvGraphicFramePr>
          <p:xfrm>
            <a:off x="8207280" y="1592280"/>
            <a:ext cx="263520" cy="247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07280" y="15922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3" name=""/>
            <p:cNvGraphicFramePr/>
            <p:nvPr/>
          </p:nvGraphicFramePr>
          <p:xfrm>
            <a:off x="6535800" y="363600"/>
            <a:ext cx="263520" cy="24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35800" y="3636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5" name=""/>
            <p:cNvGraphicFramePr/>
            <p:nvPr/>
          </p:nvGraphicFramePr>
          <p:xfrm>
            <a:off x="8220240" y="833400"/>
            <a:ext cx="263520" cy="24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220240" y="8334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7" name=""/>
            <p:cNvGraphicFramePr/>
            <p:nvPr/>
          </p:nvGraphicFramePr>
          <p:xfrm>
            <a:off x="7574040" y="301680"/>
            <a:ext cx="263520" cy="24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74040" y="3016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9" name=""/>
            <p:cNvSpPr/>
            <p:nvPr/>
          </p:nvSpPr>
          <p:spPr>
            <a:xfrm>
              <a:off x="5924520" y="822240"/>
              <a:ext cx="1440" cy="689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014880" y="574200"/>
              <a:ext cx="579600" cy="9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039000" y="954000"/>
              <a:ext cx="222552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13440" y="1724040"/>
              <a:ext cx="16383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43880" y="585720"/>
              <a:ext cx="150336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362640" y="592200"/>
              <a:ext cx="30816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7829280" y="509400"/>
              <a:ext cx="46332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7092720" y="1076400"/>
              <a:ext cx="120780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143840" y="2714760"/>
              <a:ext cx="44280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437160" y="542880"/>
              <a:ext cx="1224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446880" y="1755720"/>
              <a:ext cx="1785960" cy="6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78880" y="527040"/>
              <a:ext cx="57312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15240" y="2732040"/>
              <a:ext cx="22392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53200" y="2952720"/>
              <a:ext cx="88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8141760" y="1838160"/>
              <a:ext cx="204840" cy="10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4" name="" descr=""/>
            <p:cNvPicPr/>
            <p:nvPr/>
          </p:nvPicPr>
          <p:blipFill>
            <a:blip r:embed="rId19"/>
            <a:stretch/>
          </p:blipFill>
          <p:spPr>
            <a:xfrm>
              <a:off x="5521320" y="1704960"/>
              <a:ext cx="333360" cy="45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 (2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0120" y="1442880"/>
            <a:ext cx="39895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ulling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ically, a peer (Alice) asks each neighbor for list of chunks that they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requests for her missing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rest fi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4564080" y="860400"/>
            <a:ext cx="433692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ing Chunks: tit-for-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chunks to four neighbo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the highest 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re-evaluate top 4 every 10 s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newly chosen peer may join to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optimistically uncho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:  Tit-for-t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2909880" y="45180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6177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1" name=""/>
          <p:cNvGraphicFramePr/>
          <p:nvPr/>
        </p:nvGraphicFramePr>
        <p:xfrm>
          <a:off x="2160720" y="3438360"/>
          <a:ext cx="617400" cy="4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438360"/>
                    <a:ext cx="6174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3" name="" descr=""/>
          <p:cNvPicPr/>
          <p:nvPr/>
        </p:nvPicPr>
        <p:blipFill>
          <a:blip r:embed="rId5"/>
          <a:stretch/>
        </p:blipFill>
        <p:spPr>
          <a:xfrm>
            <a:off x="1538280" y="52419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6"/>
          <a:stretch/>
        </p:blipFill>
        <p:spPr>
          <a:xfrm>
            <a:off x="2262240" y="61182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7"/>
          <a:stretch/>
        </p:blipFill>
        <p:spPr>
          <a:xfrm>
            <a:off x="4967280" y="3895560"/>
            <a:ext cx="617400" cy="4734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8"/>
          <a:stretch/>
        </p:blipFill>
        <p:spPr>
          <a:xfrm>
            <a:off x="4662360" y="305748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9"/>
          <a:stretch/>
        </p:blipFill>
        <p:spPr>
          <a:xfrm>
            <a:off x="5729400" y="27147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10"/>
          <a:stretch/>
        </p:blipFill>
        <p:spPr>
          <a:xfrm>
            <a:off x="6351480" y="35654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11"/>
          <a:stretch/>
        </p:blipFill>
        <p:spPr>
          <a:xfrm>
            <a:off x="6173640" y="44546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12"/>
          <a:stretch/>
        </p:blipFill>
        <p:spPr>
          <a:xfrm>
            <a:off x="3389400" y="5095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 flipH="1" flipV="1">
            <a:off x="2652840" y="3935160"/>
            <a:ext cx="460080" cy="54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1471320" y="4100040"/>
            <a:ext cx="1476360" cy="600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157480" y="4991040"/>
            <a:ext cx="96840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2626920" y="5041800"/>
            <a:ext cx="60012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5511960" y="3224160"/>
            <a:ext cx="419040" cy="6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5167440" y="3490560"/>
            <a:ext cx="79200" cy="358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613480" y="3808080"/>
            <a:ext cx="787320" cy="30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613480" y="428004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3"/>
          <a:stretch/>
        </p:blipFill>
        <p:spPr>
          <a:xfrm>
            <a:off x="4979880" y="452448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 flipV="1">
            <a:off x="3530520" y="4074840"/>
            <a:ext cx="1435320" cy="485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541320" y="4165560"/>
            <a:ext cx="1400040" cy="4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581280" y="4265280"/>
            <a:ext cx="1371600" cy="48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37000" y="1320840"/>
            <a:ext cx="45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1) Alice “optimistically unchokes”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40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2) Alice becomes one of Bob’s top-four providers; Bob recipro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82080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3) Bob becomes one of Alice’s top-four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5457960"/>
            <a:ext cx="3657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 higher upload rate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n find better tr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artners &amp; get file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 fill="hold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 fill="hold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 fill="hold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 fill="hold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 fill="hold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 fill="hold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 fill="hold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 fill="hold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 fill="hold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searching for inform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48920" y="20318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File sharing (eg e-mu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dynamically tracks the locations of files that peers sh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need to tell index what they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search index to determine where files can be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451040" y="196488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maps user names to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user starts IM application, it needs to inform index of its l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search index to determine IP address of us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319680" y="968400"/>
            <a:ext cx="8123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in P2P system: maps information to pe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ocation = IP address &amp; port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Case study: Skyp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herently P2P: pairs of users communic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rietary application-layer protocol (inferred via reverse engineer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overlay with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maps usernames to IP addresses; distributed over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256440" y="1789200"/>
            <a:ext cx="1636200" cy="1538280"/>
            <a:chOff x="6256440" y="1789200"/>
            <a:chExt cx="1636200" cy="1538280"/>
          </a:xfrm>
        </p:grpSpPr>
        <p:sp>
          <p:nvSpPr>
            <p:cNvPr id="1074" name="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907320" y="1789200"/>
              <a:ext cx="1728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907320" y="1954080"/>
              <a:ext cx="59832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933960" y="2313000"/>
              <a:ext cx="95868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6505560" y="2624040"/>
              <a:ext cx="849240" cy="703440"/>
              <a:chOff x="6505560" y="2624040"/>
              <a:chExt cx="849240" cy="703440"/>
            </a:xfrm>
          </p:grpSpPr>
          <p:pic>
            <p:nvPicPr>
              <p:cNvPr id="10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480"/>
                <a:ext cx="84924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81" name=""/>
              <p:cNvGraphicFramePr/>
              <p:nvPr/>
            </p:nvGraphicFramePr>
            <p:xfrm>
              <a:off x="6632640" y="2624040"/>
              <a:ext cx="601560" cy="4460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8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640" y="2624040"/>
                        <a:ext cx="60156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83" name=""/>
          <p:cNvGrpSpPr/>
          <p:nvPr/>
        </p:nvGrpSpPr>
        <p:grpSpPr>
          <a:xfrm>
            <a:off x="4751280" y="3451320"/>
            <a:ext cx="1557360" cy="2085840"/>
            <a:chOff x="4751280" y="3451320"/>
            <a:chExt cx="1557360" cy="2085840"/>
          </a:xfrm>
        </p:grpSpPr>
        <p:sp>
          <p:nvSpPr>
            <p:cNvPr id="1084" name=""/>
            <p:cNvSpPr/>
            <p:nvPr/>
          </p:nvSpPr>
          <p:spPr>
            <a:xfrm flipV="1">
              <a:off x="5749920" y="4403880"/>
              <a:ext cx="96840" cy="7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948200" y="4417920"/>
              <a:ext cx="9144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5140440" y="4471560"/>
              <a:ext cx="749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4960800" y="4906800"/>
              <a:ext cx="501840" cy="481320"/>
              <a:chOff x="4960800" y="4906800"/>
              <a:chExt cx="501840" cy="481320"/>
            </a:xfrm>
          </p:grpSpPr>
          <p:pic>
            <p:nvPicPr>
              <p:cNvPr id="10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1" name=""/>
              <p:cNvGraphicFramePr/>
              <p:nvPr/>
            </p:nvGraphicFramePr>
            <p:xfrm>
              <a:off x="5035680" y="4906800"/>
              <a:ext cx="355320" cy="306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320" cy="30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93" name=""/>
            <p:cNvGrpSpPr/>
            <p:nvPr/>
          </p:nvGrpSpPr>
          <p:grpSpPr>
            <a:xfrm>
              <a:off x="4751280" y="4394160"/>
              <a:ext cx="501840" cy="480960"/>
              <a:chOff x="4751280" y="4394160"/>
              <a:chExt cx="501840" cy="48096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5" name=""/>
              <p:cNvGraphicFramePr/>
              <p:nvPr/>
            </p:nvGraphicFramePr>
            <p:xfrm>
              <a:off x="4826160" y="4394160"/>
              <a:ext cx="355320" cy="3049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9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32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97" name=""/>
            <p:cNvGrpSpPr/>
            <p:nvPr/>
          </p:nvGrpSpPr>
          <p:grpSpPr>
            <a:xfrm>
              <a:off x="5570640" y="5056200"/>
              <a:ext cx="501480" cy="480960"/>
              <a:chOff x="5570640" y="5056200"/>
              <a:chExt cx="501480" cy="480960"/>
            </a:xfrm>
          </p:grpSpPr>
          <p:pic>
            <p:nvPicPr>
              <p:cNvPr id="109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9" name=""/>
              <p:cNvGraphicFramePr/>
              <p:nvPr/>
            </p:nvGraphicFramePr>
            <p:xfrm>
              <a:off x="5645160" y="5056200"/>
              <a:ext cx="355680" cy="304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1" name=""/>
            <p:cNvGrpSpPr/>
            <p:nvPr/>
          </p:nvGrpSpPr>
          <p:grpSpPr>
            <a:xfrm>
              <a:off x="5181480" y="3451320"/>
              <a:ext cx="501840" cy="480960"/>
              <a:chOff x="5181480" y="3451320"/>
              <a:chExt cx="501840" cy="480960"/>
            </a:xfrm>
          </p:grpSpPr>
          <p:pic>
            <p:nvPicPr>
              <p:cNvPr id="11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03" name=""/>
              <p:cNvGraphicFramePr/>
              <p:nvPr/>
            </p:nvGraphicFramePr>
            <p:xfrm>
              <a:off x="5256360" y="3451320"/>
              <a:ext cx="355320" cy="3045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04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32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5" name=""/>
            <p:cNvGrpSpPr/>
            <p:nvPr/>
          </p:nvGrpSpPr>
          <p:grpSpPr>
            <a:xfrm>
              <a:off x="4792680" y="3822840"/>
              <a:ext cx="501480" cy="480960"/>
              <a:chOff x="4792680" y="3822840"/>
              <a:chExt cx="501480" cy="48096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07" name=""/>
              <p:cNvGraphicFramePr/>
              <p:nvPr/>
            </p:nvGraphicFramePr>
            <p:xfrm>
              <a:off x="4867200" y="3822840"/>
              <a:ext cx="355680" cy="304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08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68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9" name=""/>
            <p:cNvGrpSpPr/>
            <p:nvPr/>
          </p:nvGrpSpPr>
          <p:grpSpPr>
            <a:xfrm>
              <a:off x="5459400" y="4143240"/>
              <a:ext cx="849240" cy="703440"/>
              <a:chOff x="5459400" y="4143240"/>
              <a:chExt cx="849240" cy="703440"/>
            </a:xfrm>
          </p:grpSpPr>
          <p:pic>
            <p:nvPicPr>
              <p:cNvPr id="111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680"/>
                <a:ext cx="84924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11" name=""/>
              <p:cNvGraphicFramePr/>
              <p:nvPr/>
            </p:nvGraphicFramePr>
            <p:xfrm>
              <a:off x="5586480" y="4143240"/>
              <a:ext cx="601560" cy="4464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112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480" y="4143240"/>
                        <a:ext cx="60156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13" name=""/>
          <p:cNvSpPr/>
          <p:nvPr/>
        </p:nvSpPr>
        <p:spPr>
          <a:xfrm flipH="1">
            <a:off x="5929200" y="3021120"/>
            <a:ext cx="101448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83280" y="2868480"/>
            <a:ext cx="692280" cy="15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6013440" y="4333680"/>
            <a:ext cx="17035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7259760" y="3381480"/>
            <a:ext cx="1620720" cy="2074680"/>
            <a:chOff x="7259760" y="3381480"/>
            <a:chExt cx="1620720" cy="2074680"/>
          </a:xfrm>
        </p:grpSpPr>
        <p:sp>
          <p:nvSpPr>
            <p:cNvPr id="1117" name=""/>
            <p:cNvSpPr/>
            <p:nvPr/>
          </p:nvSpPr>
          <p:spPr>
            <a:xfrm flipH="1" flipV="1">
              <a:off x="7644960" y="4487760"/>
              <a:ext cx="874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7700760" y="4516560"/>
              <a:ext cx="7808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7660800" y="4487760"/>
              <a:ext cx="10162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660800" y="3544920"/>
              <a:ext cx="59868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7688160" y="3903840"/>
              <a:ext cx="9590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8379000" y="4379760"/>
              <a:ext cx="501480" cy="481320"/>
              <a:chOff x="8379000" y="4379760"/>
              <a:chExt cx="501480" cy="481320"/>
            </a:xfrm>
          </p:grpSpPr>
          <p:pic>
            <p:nvPicPr>
              <p:cNvPr id="112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24" name=""/>
              <p:cNvGraphicFramePr/>
              <p:nvPr/>
            </p:nvGraphicFramePr>
            <p:xfrm>
              <a:off x="8453520" y="4379760"/>
              <a:ext cx="355680" cy="3067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12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680" cy="30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26" name=""/>
            <p:cNvGrpSpPr/>
            <p:nvPr/>
          </p:nvGrpSpPr>
          <p:grpSpPr>
            <a:xfrm>
              <a:off x="8215200" y="4890960"/>
              <a:ext cx="501840" cy="481320"/>
              <a:chOff x="8215200" y="4890960"/>
              <a:chExt cx="501840" cy="481320"/>
            </a:xfrm>
          </p:grpSpPr>
          <p:pic>
            <p:nvPicPr>
              <p:cNvPr id="112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8215200" y="511344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28" name=""/>
              <p:cNvGraphicFramePr/>
              <p:nvPr/>
            </p:nvGraphicFramePr>
            <p:xfrm>
              <a:off x="8290080" y="4890960"/>
              <a:ext cx="355320" cy="30636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1129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320" cy="30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0" name=""/>
            <p:cNvGrpSpPr/>
            <p:nvPr/>
          </p:nvGrpSpPr>
          <p:grpSpPr>
            <a:xfrm>
              <a:off x="8367840" y="3770280"/>
              <a:ext cx="501480" cy="480960"/>
              <a:chOff x="8367840" y="3770280"/>
              <a:chExt cx="501480" cy="480960"/>
            </a:xfrm>
          </p:grpSpPr>
          <p:pic>
            <p:nvPicPr>
              <p:cNvPr id="11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32" name=""/>
              <p:cNvGraphicFramePr/>
              <p:nvPr/>
            </p:nvGraphicFramePr>
            <p:xfrm>
              <a:off x="8442360" y="3770280"/>
              <a:ext cx="355680" cy="3049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133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4" name=""/>
            <p:cNvGrpSpPr/>
            <p:nvPr/>
          </p:nvGrpSpPr>
          <p:grpSpPr>
            <a:xfrm>
              <a:off x="7993080" y="3381480"/>
              <a:ext cx="501480" cy="480960"/>
              <a:chOff x="7993080" y="3381480"/>
              <a:chExt cx="501480" cy="48096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36" name=""/>
              <p:cNvGraphicFramePr/>
              <p:nvPr/>
            </p:nvGraphicFramePr>
            <p:xfrm>
              <a:off x="8067600" y="3381480"/>
              <a:ext cx="355680" cy="30456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1137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600" y="3381480"/>
                        <a:ext cx="35568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8" name=""/>
            <p:cNvGrpSpPr/>
            <p:nvPr/>
          </p:nvGrpSpPr>
          <p:grpSpPr>
            <a:xfrm>
              <a:off x="7507440" y="4975200"/>
              <a:ext cx="501480" cy="480960"/>
              <a:chOff x="7507440" y="4975200"/>
              <a:chExt cx="501480" cy="480960"/>
            </a:xfrm>
          </p:grpSpPr>
          <p:pic>
            <p:nvPicPr>
              <p:cNvPr id="113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40" name=""/>
              <p:cNvGraphicFramePr/>
              <p:nvPr/>
            </p:nvGraphicFramePr>
            <p:xfrm>
              <a:off x="7581960" y="4975200"/>
              <a:ext cx="355680" cy="30492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141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2" name=""/>
            <p:cNvGrpSpPr/>
            <p:nvPr/>
          </p:nvGrpSpPr>
          <p:grpSpPr>
            <a:xfrm>
              <a:off x="7259760" y="4214880"/>
              <a:ext cx="849240" cy="703080"/>
              <a:chOff x="7259760" y="4214880"/>
              <a:chExt cx="849240" cy="703080"/>
            </a:xfrm>
          </p:grpSpPr>
          <p:pic>
            <p:nvPicPr>
              <p:cNvPr id="1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40320"/>
                <a:ext cx="84924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44" name=""/>
              <p:cNvGraphicFramePr/>
              <p:nvPr/>
            </p:nvGraphicFramePr>
            <p:xfrm>
              <a:off x="7386480" y="4214880"/>
              <a:ext cx="601920" cy="44604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1145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146" name=""/>
          <p:cNvGrpSpPr/>
          <p:nvPr/>
        </p:nvGrpSpPr>
        <p:grpSpPr>
          <a:xfrm>
            <a:off x="5867280" y="1235160"/>
            <a:ext cx="2964600" cy="1425600"/>
            <a:chOff x="5867280" y="1235160"/>
            <a:chExt cx="2964600" cy="1425600"/>
          </a:xfrm>
        </p:grpSpPr>
        <p:grpSp>
          <p:nvGrpSpPr>
            <p:cNvPr id="1147" name=""/>
            <p:cNvGrpSpPr/>
            <p:nvPr/>
          </p:nvGrpSpPr>
          <p:grpSpPr>
            <a:xfrm>
              <a:off x="5867280" y="1722600"/>
              <a:ext cx="2248200" cy="938160"/>
              <a:chOff x="5867280" y="1722600"/>
              <a:chExt cx="2248200" cy="93816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867280" y="2179800"/>
                <a:ext cx="501840" cy="480960"/>
                <a:chOff x="5867280" y="2179800"/>
                <a:chExt cx="501840" cy="480960"/>
              </a:xfrm>
            </p:grpSpPr>
            <p:pic>
              <p:nvPicPr>
                <p:cNvPr id="1149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867280" y="2401920"/>
                  <a:ext cx="50184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0" name=""/>
                <p:cNvGraphicFramePr/>
                <p:nvPr/>
              </p:nvGraphicFramePr>
              <p:xfrm>
                <a:off x="5942160" y="2179800"/>
                <a:ext cx="355320" cy="304560"/>
              </p:xfrm>
              <a:graphic>
                <a:graphicData uri="http://schemas.openxmlformats.org/presentationml/2006/ole">
                  <p:oleObj r:id="rId41" spid="">
                    <p:embed/>
                    <p:pic>
                      <p:nvPicPr>
                        <p:cNvPr id="1151" name="" descr="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5942160" y="2179800"/>
                          <a:ext cx="35532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52" name=""/>
              <p:cNvGrpSpPr/>
              <p:nvPr/>
            </p:nvGrpSpPr>
            <p:grpSpPr>
              <a:xfrm>
                <a:off x="6697800" y="1722600"/>
                <a:ext cx="501480" cy="480960"/>
                <a:chOff x="6697800" y="1722600"/>
                <a:chExt cx="501480" cy="480960"/>
              </a:xfrm>
            </p:grpSpPr>
            <p:pic>
              <p:nvPicPr>
                <p:cNvPr id="1153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697800" y="1944720"/>
                  <a:ext cx="50148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4" name=""/>
                <p:cNvGraphicFramePr/>
                <p:nvPr/>
              </p:nvGraphicFramePr>
              <p:xfrm>
                <a:off x="6772320" y="1722600"/>
                <a:ext cx="355680" cy="30456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1155" name="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6772320" y="172260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56" name=""/>
              <p:cNvGrpSpPr/>
              <p:nvPr/>
            </p:nvGrpSpPr>
            <p:grpSpPr>
              <a:xfrm>
                <a:off x="6172200" y="1819440"/>
                <a:ext cx="501480" cy="480960"/>
                <a:chOff x="6172200" y="1819440"/>
                <a:chExt cx="501480" cy="480960"/>
              </a:xfrm>
            </p:grpSpPr>
            <p:pic>
              <p:nvPicPr>
                <p:cNvPr id="1157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172200" y="2041560"/>
                  <a:ext cx="50148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8" name=""/>
                <p:cNvGraphicFramePr/>
                <p:nvPr/>
              </p:nvGraphicFramePr>
              <p:xfrm>
                <a:off x="6246720" y="1819440"/>
                <a:ext cx="355680" cy="304560"/>
              </p:xfrm>
              <a:graphic>
                <a:graphicData uri="http://schemas.openxmlformats.org/presentationml/2006/ole">
                  <p:oleObj r:id="rId47" spid="">
                    <p:embed/>
                    <p:pic>
                      <p:nvPicPr>
                        <p:cNvPr id="1159" name="" descr="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6246720" y="181944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60" name=""/>
              <p:cNvGrpSpPr/>
              <p:nvPr/>
            </p:nvGrpSpPr>
            <p:grpSpPr>
              <a:xfrm>
                <a:off x="7613640" y="2179800"/>
                <a:ext cx="501840" cy="480960"/>
                <a:chOff x="7613640" y="2179800"/>
                <a:chExt cx="501840" cy="480960"/>
              </a:xfrm>
            </p:grpSpPr>
            <p:pic>
              <p:nvPicPr>
                <p:cNvPr id="1161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613640" y="2401920"/>
                  <a:ext cx="50184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62" name=""/>
                <p:cNvGraphicFramePr/>
                <p:nvPr/>
              </p:nvGraphicFramePr>
              <p:xfrm>
                <a:off x="7688160" y="2179800"/>
                <a:ext cx="355680" cy="30456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1163" name="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7688160" y="217980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64" name=""/>
              <p:cNvGrpSpPr/>
              <p:nvPr/>
            </p:nvGrpSpPr>
            <p:grpSpPr>
              <a:xfrm>
                <a:off x="7238880" y="1790640"/>
                <a:ext cx="501840" cy="480960"/>
                <a:chOff x="7238880" y="1790640"/>
                <a:chExt cx="501840" cy="480960"/>
              </a:xfrm>
            </p:grpSpPr>
            <p:pic>
              <p:nvPicPr>
                <p:cNvPr id="1165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238880" y="201312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66" name=""/>
                <p:cNvGraphicFramePr/>
                <p:nvPr/>
              </p:nvGraphicFramePr>
              <p:xfrm>
                <a:off x="7313760" y="1790640"/>
                <a:ext cx="355320" cy="30492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1167" name="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7313760" y="1790640"/>
                          <a:ext cx="355320" cy="304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68" name=""/>
            <p:cNvSpPr/>
            <p:nvPr/>
          </p:nvSpPr>
          <p:spPr>
            <a:xfrm>
              <a:off x="6593760" y="123516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kype clients (S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224120" y="2746440"/>
            <a:ext cx="1559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n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4179960" y="1677960"/>
            <a:ext cx="1593360" cy="1481400"/>
            <a:chOff x="4179960" y="1677960"/>
            <a:chExt cx="1593360" cy="1481400"/>
          </a:xfrm>
        </p:grpSpPr>
        <p:grpSp>
          <p:nvGrpSpPr>
            <p:cNvPr id="1171" name=""/>
            <p:cNvGrpSpPr/>
            <p:nvPr/>
          </p:nvGrpSpPr>
          <p:grpSpPr>
            <a:xfrm>
              <a:off x="4721400" y="1677960"/>
              <a:ext cx="428400" cy="866880"/>
              <a:chOff x="4721400" y="1677960"/>
              <a:chExt cx="428400" cy="866880"/>
            </a:xfrm>
          </p:grpSpPr>
          <p:sp>
            <p:nvSpPr>
              <p:cNvPr id="1172" name=""/>
              <p:cNvSpPr/>
              <p:nvPr/>
            </p:nvSpPr>
            <p:spPr>
              <a:xfrm>
                <a:off x="4721400" y="2344680"/>
                <a:ext cx="426960" cy="200160"/>
              </a:xfrm>
              <a:prstGeom prst="parallelogram">
                <a:avLst>
                  <a:gd name="adj" fmla="val 8217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937040" y="1684440"/>
                <a:ext cx="196920" cy="6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724280" y="1873080"/>
                <a:ext cx="270000" cy="667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21400" y="1677960"/>
                <a:ext cx="426960" cy="200160"/>
              </a:xfrm>
              <a:prstGeom prst="parallelogram">
                <a:avLst>
                  <a:gd name="adj" fmla="val 8217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148360" y="1692360"/>
                <a:ext cx="144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4992840" y="2344680"/>
                <a:ext cx="15696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757760" y="1960560"/>
                <a:ext cx="179280" cy="384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782960" y="2076480"/>
                <a:ext cx="1368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4179960" y="2544840"/>
              <a:ext cx="1593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ky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gin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Architectu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48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known, powerful, reliable server is a data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request data from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uccessful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 (HTTP), FTP, Web service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318920" y="2062080"/>
            <a:ext cx="4609800" cy="2740680"/>
            <a:chOff x="4318920" y="2062080"/>
            <a:chExt cx="4609800" cy="2740680"/>
          </a:xfrm>
        </p:grpSpPr>
        <p:grpSp>
          <p:nvGrpSpPr>
            <p:cNvPr id="64" name=""/>
            <p:cNvGrpSpPr/>
            <p:nvPr/>
          </p:nvGrpSpPr>
          <p:grpSpPr>
            <a:xfrm>
              <a:off x="5162400" y="2940120"/>
              <a:ext cx="2687760" cy="1623960"/>
              <a:chOff x="5162400" y="2940120"/>
              <a:chExt cx="2687760" cy="1623960"/>
            </a:xfrm>
          </p:grpSpPr>
          <p:sp>
            <p:nvSpPr>
              <p:cNvPr id="65" name=""/>
              <p:cNvSpPr/>
              <p:nvPr/>
            </p:nvSpPr>
            <p:spPr>
              <a:xfrm>
                <a:off x="5508720" y="326376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43600" y="294012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62720" y="318276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35880" y="342756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10480" y="342756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635880" y="3751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029280" y="399564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62400" y="3427560"/>
                <a:ext cx="104004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43600" y="3508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23040" y="3832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064360" y="4024440"/>
              <a:ext cx="519120" cy="344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7920" y="2725560"/>
              <a:ext cx="51912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0400" y="4025880"/>
              <a:ext cx="519120" cy="401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3080" y="2062080"/>
              <a:ext cx="995400" cy="636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8760" y="2657520"/>
              <a:ext cx="519120" cy="342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454800" y="2671920"/>
              <a:ext cx="144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4814640" y="2970000"/>
              <a:ext cx="7412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7080" y="3944880"/>
              <a:ext cx="86184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7368840" y="4019040"/>
              <a:ext cx="826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307280" y="2941200"/>
              <a:ext cx="84132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78800" y="212076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920" y="30574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18920" y="44038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3640" y="44038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3640" y="29988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7680" y="35845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63244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Figure from http://project-iris.net/talks/dht-toronto-03.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onym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ster, Gnutella, Kazaa don’t provide anonym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 know who they are downloading 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 know who sent a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to provide anonymity among other fe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s are mapped to 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stores a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a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keys, and a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table defines the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over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ies are routed to the node with the most 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flows in reverse path of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 to know if a user is initiating or forwarding a qu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 to know if a user is consuming or forward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s replicated in (some) of the nodes along the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125360" y="1816200"/>
          <a:ext cx="658836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16200"/>
                    <a:ext cx="658836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1125360" y="1816200"/>
          <a:ext cx="658836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16200"/>
                    <a:ext cx="658836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 flipV="1">
            <a:off x="3276720" y="4722840"/>
            <a:ext cx="1439640" cy="65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92360" y="4076640"/>
            <a:ext cx="1295280" cy="12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971280" y="2049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17760" y="3870360"/>
            <a:ext cx="21960" cy="23760"/>
          </a:xfrm>
          <a:custGeom>
            <a:avLst/>
            <a:gdLst/>
            <a:ahLst/>
            <a:rect l="l" t="t" r="r" b="b"/>
            <a:pathLst>
              <a:path w="29" h="31">
                <a:moveTo>
                  <a:pt x="10" y="0"/>
                </a:moveTo>
                <a:lnTo>
                  <a:pt x="0" y="21"/>
                </a:lnTo>
                <a:lnTo>
                  <a:pt x="20" y="31"/>
                </a:lnTo>
                <a:lnTo>
                  <a:pt x="29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49440" y="3886200"/>
            <a:ext cx="2376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0"/>
                </a:moveTo>
                <a:lnTo>
                  <a:pt x="0" y="21"/>
                </a:lnTo>
                <a:lnTo>
                  <a:pt x="21" y="31"/>
                </a:lnTo>
                <a:lnTo>
                  <a:pt x="3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82560" y="3900600"/>
            <a:ext cx="24120" cy="25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10" y="0"/>
                </a:moveTo>
                <a:lnTo>
                  <a:pt x="0" y="22"/>
                </a:lnTo>
                <a:lnTo>
                  <a:pt x="21" y="31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14600" y="3917880"/>
            <a:ext cx="23760" cy="23760"/>
          </a:xfrm>
          <a:custGeom>
            <a:avLst/>
            <a:gdLst/>
            <a:ahLst/>
            <a:rect l="l" t="t" r="r" b="b"/>
            <a:pathLst>
              <a:path w="31" h="30">
                <a:moveTo>
                  <a:pt x="10" y="0"/>
                </a:moveTo>
                <a:lnTo>
                  <a:pt x="0" y="21"/>
                </a:lnTo>
                <a:lnTo>
                  <a:pt x="21" y="30"/>
                </a:lnTo>
                <a:lnTo>
                  <a:pt x="31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47720" y="3932280"/>
            <a:ext cx="25560" cy="25200"/>
          </a:xfrm>
          <a:custGeom>
            <a:avLst/>
            <a:gdLst/>
            <a:ahLst/>
            <a:rect l="l" t="t" r="r" b="b"/>
            <a:pathLst>
              <a:path w="31" h="30">
                <a:moveTo>
                  <a:pt x="10" y="0"/>
                </a:moveTo>
                <a:lnTo>
                  <a:pt x="0" y="21"/>
                </a:lnTo>
                <a:lnTo>
                  <a:pt x="22" y="30"/>
                </a:lnTo>
                <a:lnTo>
                  <a:pt x="31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681200" y="3948120"/>
            <a:ext cx="2520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0"/>
                </a:moveTo>
                <a:lnTo>
                  <a:pt x="0" y="21"/>
                </a:lnTo>
                <a:lnTo>
                  <a:pt x="21" y="31"/>
                </a:lnTo>
                <a:lnTo>
                  <a:pt x="3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714680" y="3965400"/>
            <a:ext cx="23760" cy="24120"/>
          </a:xfrm>
          <a:custGeom>
            <a:avLst/>
            <a:gdLst/>
            <a:ahLst/>
            <a:rect l="l" t="t" r="r" b="b"/>
            <a:pathLst>
              <a:path w="31" h="31">
                <a:moveTo>
                  <a:pt x="10" y="0"/>
                </a:moveTo>
                <a:lnTo>
                  <a:pt x="0" y="21"/>
                </a:lnTo>
                <a:lnTo>
                  <a:pt x="21" y="31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08680" y="512748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5" y="23"/>
                </a:lnTo>
                <a:lnTo>
                  <a:pt x="23" y="25"/>
                </a:lnTo>
                <a:lnTo>
                  <a:pt x="25" y="2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45400" y="513072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" y="23"/>
                </a:lnTo>
                <a:lnTo>
                  <a:pt x="23" y="25"/>
                </a:lnTo>
                <a:lnTo>
                  <a:pt x="25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80320" y="513540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3" y="25"/>
                </a:lnTo>
                <a:lnTo>
                  <a:pt x="25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916680" y="513864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3" y="25"/>
                </a:lnTo>
                <a:lnTo>
                  <a:pt x="23" y="25"/>
                </a:lnTo>
                <a:lnTo>
                  <a:pt x="25" y="2"/>
                </a:lnTo>
                <a:lnTo>
                  <a:pt x="23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953400" y="514188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10" y="23"/>
                </a:lnTo>
                <a:lnTo>
                  <a:pt x="23" y="25"/>
                </a:lnTo>
                <a:lnTo>
                  <a:pt x="25" y="2"/>
                </a:lnTo>
                <a:lnTo>
                  <a:pt x="1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89760" y="5146560"/>
            <a:ext cx="19080" cy="20880"/>
          </a:xfrm>
          <a:custGeom>
            <a:avLst/>
            <a:gdLst/>
            <a:ahLst/>
            <a:rect l="l" t="t" r="r" b="b"/>
            <a:pathLst>
              <a:path w="23" h="25">
                <a:moveTo>
                  <a:pt x="2" y="0"/>
                </a:moveTo>
                <a:lnTo>
                  <a:pt x="0" y="23"/>
                </a:lnTo>
                <a:lnTo>
                  <a:pt x="21" y="25"/>
                </a:lnTo>
                <a:lnTo>
                  <a:pt x="23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02040" y="2963880"/>
            <a:ext cx="19080" cy="164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809960" y="2955960"/>
            <a:ext cx="1833840" cy="565200"/>
          </a:xfrm>
          <a:custGeom>
            <a:avLst/>
            <a:gdLst/>
            <a:ahLst/>
            <a:rect l="l" t="t" r="r" b="b"/>
            <a:pathLst>
              <a:path w="2310" h="712">
                <a:moveTo>
                  <a:pt x="6" y="0"/>
                </a:moveTo>
                <a:lnTo>
                  <a:pt x="0" y="21"/>
                </a:lnTo>
                <a:lnTo>
                  <a:pt x="2304" y="712"/>
                </a:lnTo>
                <a:lnTo>
                  <a:pt x="2310" y="691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62240" y="3870360"/>
            <a:ext cx="1654200" cy="747720"/>
          </a:xfrm>
          <a:custGeom>
            <a:avLst/>
            <a:gdLst/>
            <a:ahLst/>
            <a:rect l="l" t="t" r="r" b="b"/>
            <a:pathLst>
              <a:path w="2083" h="943">
                <a:moveTo>
                  <a:pt x="10" y="0"/>
                </a:moveTo>
                <a:lnTo>
                  <a:pt x="0" y="21"/>
                </a:lnTo>
                <a:lnTo>
                  <a:pt x="2074" y="943"/>
                </a:lnTo>
                <a:lnTo>
                  <a:pt x="2083" y="92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32640" y="3510000"/>
            <a:ext cx="382680" cy="1649520"/>
          </a:xfrm>
          <a:custGeom>
            <a:avLst/>
            <a:gdLst/>
            <a:ahLst/>
            <a:rect l="l" t="t" r="r" b="b"/>
            <a:pathLst>
              <a:path w="482" h="2077">
                <a:moveTo>
                  <a:pt x="21" y="0"/>
                </a:moveTo>
                <a:lnTo>
                  <a:pt x="0" y="4"/>
                </a:lnTo>
                <a:lnTo>
                  <a:pt x="461" y="2077"/>
                </a:lnTo>
                <a:lnTo>
                  <a:pt x="482" y="2073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62240" y="2955960"/>
            <a:ext cx="1654200" cy="930240"/>
          </a:xfrm>
          <a:custGeom>
            <a:avLst/>
            <a:gdLst/>
            <a:ahLst/>
            <a:rect l="l" t="t" r="r" b="b"/>
            <a:pathLst>
              <a:path w="2085" h="1171">
                <a:moveTo>
                  <a:pt x="2085" y="19"/>
                </a:moveTo>
                <a:lnTo>
                  <a:pt x="2074" y="0"/>
                </a:lnTo>
                <a:lnTo>
                  <a:pt x="0" y="1152"/>
                </a:lnTo>
                <a:lnTo>
                  <a:pt x="12" y="1171"/>
                </a:lnTo>
                <a:lnTo>
                  <a:pt x="208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9960" y="4602240"/>
            <a:ext cx="2200320" cy="565200"/>
          </a:xfrm>
          <a:custGeom>
            <a:avLst/>
            <a:gdLst/>
            <a:ahLst/>
            <a:rect l="l" t="t" r="r" b="b"/>
            <a:pathLst>
              <a:path w="2771" h="713">
                <a:moveTo>
                  <a:pt x="2765" y="713"/>
                </a:moveTo>
                <a:lnTo>
                  <a:pt x="2771" y="692"/>
                </a:lnTo>
                <a:lnTo>
                  <a:pt x="6" y="0"/>
                </a:lnTo>
                <a:lnTo>
                  <a:pt x="0" y="22"/>
                </a:lnTo>
                <a:lnTo>
                  <a:pt x="2765" y="7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09960" y="2955960"/>
            <a:ext cx="1833840" cy="565200"/>
          </a:xfrm>
          <a:custGeom>
            <a:avLst/>
            <a:gdLst/>
            <a:ahLst/>
            <a:rect l="l" t="t" r="r" b="b"/>
            <a:pathLst>
              <a:path w="2310" h="712">
                <a:moveTo>
                  <a:pt x="6" y="0"/>
                </a:moveTo>
                <a:lnTo>
                  <a:pt x="0" y="21"/>
                </a:lnTo>
                <a:lnTo>
                  <a:pt x="2304" y="712"/>
                </a:lnTo>
                <a:lnTo>
                  <a:pt x="2310" y="691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62240" y="3870360"/>
            <a:ext cx="1654200" cy="747720"/>
          </a:xfrm>
          <a:custGeom>
            <a:avLst/>
            <a:gdLst/>
            <a:ahLst/>
            <a:rect l="l" t="t" r="r" b="b"/>
            <a:pathLst>
              <a:path w="2083" h="943">
                <a:moveTo>
                  <a:pt x="10" y="0"/>
                </a:moveTo>
                <a:lnTo>
                  <a:pt x="0" y="21"/>
                </a:lnTo>
                <a:lnTo>
                  <a:pt x="2074" y="943"/>
                </a:lnTo>
                <a:lnTo>
                  <a:pt x="2083" y="92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02040" y="2963880"/>
            <a:ext cx="19080" cy="164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32640" y="3510000"/>
            <a:ext cx="382680" cy="1649520"/>
          </a:xfrm>
          <a:custGeom>
            <a:avLst/>
            <a:gdLst/>
            <a:ahLst/>
            <a:rect l="l" t="t" r="r" b="b"/>
            <a:pathLst>
              <a:path w="482" h="2077">
                <a:moveTo>
                  <a:pt x="21" y="0"/>
                </a:moveTo>
                <a:lnTo>
                  <a:pt x="0" y="4"/>
                </a:lnTo>
                <a:lnTo>
                  <a:pt x="461" y="2077"/>
                </a:lnTo>
                <a:lnTo>
                  <a:pt x="482" y="2073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62240" y="2955960"/>
            <a:ext cx="1654200" cy="930240"/>
          </a:xfrm>
          <a:custGeom>
            <a:avLst/>
            <a:gdLst/>
            <a:ahLst/>
            <a:rect l="l" t="t" r="r" b="b"/>
            <a:pathLst>
              <a:path w="2085" h="1171">
                <a:moveTo>
                  <a:pt x="2085" y="19"/>
                </a:moveTo>
                <a:lnTo>
                  <a:pt x="2074" y="0"/>
                </a:lnTo>
                <a:lnTo>
                  <a:pt x="0" y="1152"/>
                </a:lnTo>
                <a:lnTo>
                  <a:pt x="12" y="1171"/>
                </a:lnTo>
                <a:lnTo>
                  <a:pt x="208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809960" y="4602240"/>
            <a:ext cx="2200320" cy="565200"/>
          </a:xfrm>
          <a:custGeom>
            <a:avLst/>
            <a:gdLst/>
            <a:ahLst/>
            <a:rect l="l" t="t" r="r" b="b"/>
            <a:pathLst>
              <a:path w="2771" h="713">
                <a:moveTo>
                  <a:pt x="2765" y="713"/>
                </a:moveTo>
                <a:lnTo>
                  <a:pt x="2771" y="692"/>
                </a:lnTo>
                <a:lnTo>
                  <a:pt x="6" y="0"/>
                </a:lnTo>
                <a:lnTo>
                  <a:pt x="0" y="22"/>
                </a:lnTo>
                <a:lnTo>
                  <a:pt x="2765" y="7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515960" y="385920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42960" y="383544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69960" y="3811680"/>
            <a:ext cx="255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98760" y="378612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625760" y="3762360"/>
            <a:ext cx="23760" cy="2556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652760" y="3738600"/>
            <a:ext cx="23760" cy="25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3"/>
                </a:moveTo>
                <a:lnTo>
                  <a:pt x="14" y="31"/>
                </a:lnTo>
                <a:lnTo>
                  <a:pt x="31" y="17"/>
                </a:lnTo>
                <a:lnTo>
                  <a:pt x="18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79400" y="3714840"/>
            <a:ext cx="255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708200" y="369108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735200" y="366552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762200" y="3641760"/>
            <a:ext cx="2520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90640" y="3619440"/>
            <a:ext cx="23760" cy="23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4"/>
                </a:moveTo>
                <a:lnTo>
                  <a:pt x="13" y="31"/>
                </a:lnTo>
                <a:lnTo>
                  <a:pt x="31" y="18"/>
                </a:lnTo>
                <a:lnTo>
                  <a:pt x="17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817640" y="3594240"/>
            <a:ext cx="237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44640" y="3570120"/>
            <a:ext cx="237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71640" y="3546360"/>
            <a:ext cx="2556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900080" y="3521160"/>
            <a:ext cx="2412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3498840"/>
            <a:ext cx="24120" cy="23760"/>
          </a:xfrm>
          <a:custGeom>
            <a:avLst/>
            <a:gdLst/>
            <a:ahLst/>
            <a:rect l="l" t="t" r="r" b="b"/>
            <a:pathLst>
              <a:path w="31" h="30">
                <a:moveTo>
                  <a:pt x="0" y="13"/>
                </a:moveTo>
                <a:lnTo>
                  <a:pt x="13" y="30"/>
                </a:lnTo>
                <a:lnTo>
                  <a:pt x="31" y="17"/>
                </a:lnTo>
                <a:lnTo>
                  <a:pt x="17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54080" y="3473280"/>
            <a:ext cx="27000" cy="2700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15"/>
                </a:moveTo>
                <a:lnTo>
                  <a:pt x="14" y="33"/>
                </a:lnTo>
                <a:lnTo>
                  <a:pt x="33" y="17"/>
                </a:lnTo>
                <a:lnTo>
                  <a:pt x="20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82880" y="3449520"/>
            <a:ext cx="2520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011320" y="342576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38320" y="340056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65320" y="3378240"/>
            <a:ext cx="2556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3"/>
                </a:moveTo>
                <a:lnTo>
                  <a:pt x="13" y="31"/>
                </a:lnTo>
                <a:lnTo>
                  <a:pt x="30" y="17"/>
                </a:lnTo>
                <a:lnTo>
                  <a:pt x="17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93760" y="3354480"/>
            <a:ext cx="2412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20760" y="3328920"/>
            <a:ext cx="2412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47760" y="3305160"/>
            <a:ext cx="2412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74760" y="3281400"/>
            <a:ext cx="255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03560" y="325584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30560" y="323388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57560" y="3208320"/>
            <a:ext cx="2520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318456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13000" y="3160800"/>
            <a:ext cx="237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340000" y="313524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67000" y="3112920"/>
            <a:ext cx="2520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95440" y="3089160"/>
            <a:ext cx="25560" cy="25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16"/>
                </a:moveTo>
                <a:lnTo>
                  <a:pt x="14" y="33"/>
                </a:lnTo>
                <a:lnTo>
                  <a:pt x="33" y="18"/>
                </a:lnTo>
                <a:lnTo>
                  <a:pt x="19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24240" y="3063960"/>
            <a:ext cx="237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51240" y="3040200"/>
            <a:ext cx="2520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78240" y="3016080"/>
            <a:ext cx="2520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506680" y="299232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33680" y="2968560"/>
            <a:ext cx="237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60680" y="2943360"/>
            <a:ext cx="2520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89120" y="291924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616120" y="2895480"/>
            <a:ext cx="2376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643120" y="287172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70120" y="2847960"/>
            <a:ext cx="255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698920" y="282420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725560" y="2798640"/>
            <a:ext cx="2412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52560" y="2774880"/>
            <a:ext cx="255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781360" y="275112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08360" y="2727360"/>
            <a:ext cx="237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35360" y="270360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863800" y="2678040"/>
            <a:ext cx="255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892600" y="265428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19240" y="2631960"/>
            <a:ext cx="2412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4"/>
                </a:moveTo>
                <a:lnTo>
                  <a:pt x="13" y="31"/>
                </a:lnTo>
                <a:lnTo>
                  <a:pt x="30" y="18"/>
                </a:lnTo>
                <a:lnTo>
                  <a:pt x="17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946240" y="2606760"/>
            <a:ext cx="255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973240" y="2592360"/>
            <a:ext cx="16200" cy="158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4"/>
                </a:moveTo>
                <a:lnTo>
                  <a:pt x="13" y="22"/>
                </a:lnTo>
                <a:lnTo>
                  <a:pt x="19" y="18"/>
                </a:lnTo>
                <a:lnTo>
                  <a:pt x="6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2100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573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5937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3044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6680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7035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98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77624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129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93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860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224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591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954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318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685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049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1416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1780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214720" y="3868560"/>
            <a:ext cx="18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510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874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3241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986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43540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717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081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4484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58120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179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542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69064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273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7637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004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368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735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098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462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829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193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560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924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129120" y="3868560"/>
            <a:ext cx="18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515960" y="3871800"/>
            <a:ext cx="2232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7"/>
                </a:lnTo>
                <a:lnTo>
                  <a:pt x="16" y="33"/>
                </a:lnTo>
                <a:lnTo>
                  <a:pt x="29" y="15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539720" y="3895560"/>
            <a:ext cx="2412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7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65280" y="3922560"/>
            <a:ext cx="255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92280" y="3948120"/>
            <a:ext cx="23760" cy="27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17840" y="3973680"/>
            <a:ext cx="23760" cy="2844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7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43040" y="4000680"/>
            <a:ext cx="25560" cy="2664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670040" y="4025880"/>
            <a:ext cx="23760" cy="27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27280" y="4983120"/>
            <a:ext cx="237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4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652840" y="5008680"/>
            <a:ext cx="23760" cy="2700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678040" y="5033880"/>
            <a:ext cx="2556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705040" y="5060880"/>
            <a:ext cx="237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730600" y="5086440"/>
            <a:ext cx="23760" cy="2700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55800" y="5111640"/>
            <a:ext cx="2556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781360" y="5138640"/>
            <a:ext cx="2520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08360" y="5164200"/>
            <a:ext cx="23760" cy="27000"/>
          </a:xfrm>
          <a:custGeom>
            <a:avLst/>
            <a:gdLst/>
            <a:ahLst/>
            <a:rect l="l" t="t" r="r" b="b"/>
            <a:pathLst>
              <a:path w="30" h="34">
                <a:moveTo>
                  <a:pt x="13" y="0"/>
                </a:moveTo>
                <a:lnTo>
                  <a:pt x="0" y="17"/>
                </a:lnTo>
                <a:lnTo>
                  <a:pt x="17" y="34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833560" y="5189400"/>
            <a:ext cx="24120" cy="270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8"/>
                </a:lnTo>
                <a:lnTo>
                  <a:pt x="16" y="33"/>
                </a:lnTo>
                <a:lnTo>
                  <a:pt x="29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859120" y="5216400"/>
            <a:ext cx="2376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3" y="0"/>
                </a:moveTo>
                <a:lnTo>
                  <a:pt x="0" y="17"/>
                </a:lnTo>
                <a:lnTo>
                  <a:pt x="15" y="33"/>
                </a:lnTo>
                <a:lnTo>
                  <a:pt x="29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86120" y="524196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13" y="0"/>
                </a:moveTo>
                <a:lnTo>
                  <a:pt x="0" y="17"/>
                </a:lnTo>
                <a:lnTo>
                  <a:pt x="15" y="32"/>
                </a:lnTo>
                <a:lnTo>
                  <a:pt x="28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092400" y="5448240"/>
            <a:ext cx="23760" cy="27000"/>
          </a:xfrm>
          <a:custGeom>
            <a:avLst/>
            <a:gdLst/>
            <a:ahLst/>
            <a:rect l="l" t="t" r="r" b="b"/>
            <a:pathLst>
              <a:path w="28" h="32">
                <a:moveTo>
                  <a:pt x="13" y="0"/>
                </a:moveTo>
                <a:lnTo>
                  <a:pt x="0" y="17"/>
                </a:lnTo>
                <a:lnTo>
                  <a:pt x="15" y="32"/>
                </a:lnTo>
                <a:lnTo>
                  <a:pt x="28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119400" y="5475240"/>
            <a:ext cx="2232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8"/>
                </a:lnTo>
                <a:lnTo>
                  <a:pt x="16" y="33"/>
                </a:lnTo>
                <a:lnTo>
                  <a:pt x="29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144960" y="5500800"/>
            <a:ext cx="21960" cy="25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3" y="0"/>
                </a:moveTo>
                <a:lnTo>
                  <a:pt x="0" y="17"/>
                </a:lnTo>
                <a:lnTo>
                  <a:pt x="15" y="33"/>
                </a:lnTo>
                <a:lnTo>
                  <a:pt x="29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157560" y="387828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157560" y="39146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57560" y="395136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57560" y="398772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57560" y="4024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57560" y="40608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157560" y="5450040"/>
            <a:ext cx="172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57560" y="5486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988320" y="5148360"/>
            <a:ext cx="2052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951600" y="5151600"/>
            <a:ext cx="20880" cy="205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5" y="23"/>
                </a:moveTo>
                <a:lnTo>
                  <a:pt x="23" y="0"/>
                </a:lnTo>
                <a:lnTo>
                  <a:pt x="0" y="1"/>
                </a:lnTo>
                <a:lnTo>
                  <a:pt x="2" y="24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915240" y="515628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78520" y="515952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42160" y="516240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05440" y="5165640"/>
            <a:ext cx="19080" cy="20880"/>
          </a:xfrm>
          <a:custGeom>
            <a:avLst/>
            <a:gdLst/>
            <a:ahLst/>
            <a:rect l="l" t="t" r="r" b="b"/>
            <a:pathLst>
              <a:path w="25" h="27">
                <a:moveTo>
                  <a:pt x="25" y="23"/>
                </a:moveTo>
                <a:lnTo>
                  <a:pt x="23" y="0"/>
                </a:lnTo>
                <a:lnTo>
                  <a:pt x="0" y="4"/>
                </a:lnTo>
                <a:lnTo>
                  <a:pt x="2" y="27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84880" y="5300640"/>
            <a:ext cx="2052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38560" y="5505480"/>
            <a:ext cx="19080" cy="20520"/>
          </a:xfrm>
          <a:custGeom>
            <a:avLst/>
            <a:gdLst/>
            <a:ahLst/>
            <a:rect l="l" t="t" r="r" b="b"/>
            <a:pathLst>
              <a:path w="25" h="27">
                <a:moveTo>
                  <a:pt x="25" y="23"/>
                </a:moveTo>
                <a:lnTo>
                  <a:pt x="23" y="0"/>
                </a:lnTo>
                <a:lnTo>
                  <a:pt x="0" y="4"/>
                </a:lnTo>
                <a:lnTo>
                  <a:pt x="2" y="27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5510160"/>
            <a:ext cx="2052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65480" y="5513400"/>
            <a:ext cx="19080" cy="19080"/>
          </a:xfrm>
          <a:custGeom>
            <a:avLst/>
            <a:gdLst/>
            <a:ahLst/>
            <a:rect l="l" t="t" r="r" b="b"/>
            <a:pathLst>
              <a:path w="23" h="25">
                <a:moveTo>
                  <a:pt x="23" y="24"/>
                </a:moveTo>
                <a:lnTo>
                  <a:pt x="21" y="0"/>
                </a:lnTo>
                <a:lnTo>
                  <a:pt x="0" y="2"/>
                </a:lnTo>
                <a:lnTo>
                  <a:pt x="2" y="25"/>
                </a:lnTo>
                <a:lnTo>
                  <a:pt x="2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57560" y="5514840"/>
            <a:ext cx="17280" cy="17640"/>
          </a:xfrm>
          <a:custGeom>
            <a:avLst/>
            <a:gdLst/>
            <a:ahLst/>
            <a:rect l="l" t="t" r="r" b="b"/>
            <a:pathLst>
              <a:path w="23" h="23">
                <a:moveTo>
                  <a:pt x="8" y="2"/>
                </a:moveTo>
                <a:lnTo>
                  <a:pt x="4" y="4"/>
                </a:lnTo>
                <a:lnTo>
                  <a:pt x="0" y="12"/>
                </a:lnTo>
                <a:lnTo>
                  <a:pt x="4" y="20"/>
                </a:lnTo>
                <a:lnTo>
                  <a:pt x="8" y="22"/>
                </a:lnTo>
                <a:lnTo>
                  <a:pt x="12" y="23"/>
                </a:lnTo>
                <a:lnTo>
                  <a:pt x="18" y="23"/>
                </a:lnTo>
                <a:lnTo>
                  <a:pt x="18" y="22"/>
                </a:lnTo>
                <a:lnTo>
                  <a:pt x="19" y="20"/>
                </a:lnTo>
                <a:lnTo>
                  <a:pt x="23" y="12"/>
                </a:lnTo>
                <a:lnTo>
                  <a:pt x="19" y="4"/>
                </a:lnTo>
                <a:lnTo>
                  <a:pt x="16" y="0"/>
                </a:lnTo>
                <a:lnTo>
                  <a:pt x="12" y="0"/>
                </a:lnTo>
                <a:lnTo>
                  <a:pt x="8" y="0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89240" y="5495760"/>
            <a:ext cx="1764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5" y="2"/>
                </a:moveTo>
                <a:lnTo>
                  <a:pt x="3" y="4"/>
                </a:lnTo>
                <a:lnTo>
                  <a:pt x="0" y="12"/>
                </a:lnTo>
                <a:lnTo>
                  <a:pt x="3" y="21"/>
                </a:lnTo>
                <a:lnTo>
                  <a:pt x="7" y="23"/>
                </a:lnTo>
                <a:lnTo>
                  <a:pt x="11" y="23"/>
                </a:lnTo>
                <a:lnTo>
                  <a:pt x="15" y="23"/>
                </a:lnTo>
                <a:lnTo>
                  <a:pt x="15" y="23"/>
                </a:lnTo>
                <a:lnTo>
                  <a:pt x="19" y="21"/>
                </a:lnTo>
                <a:lnTo>
                  <a:pt x="23" y="12"/>
                </a:lnTo>
                <a:lnTo>
                  <a:pt x="19" y="4"/>
                </a:lnTo>
                <a:lnTo>
                  <a:pt x="15" y="2"/>
                </a:lnTo>
                <a:lnTo>
                  <a:pt x="11" y="0"/>
                </a:lnTo>
                <a:lnTo>
                  <a:pt x="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20920" y="5479920"/>
            <a:ext cx="17640" cy="1764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0"/>
                </a:moveTo>
                <a:lnTo>
                  <a:pt x="4" y="2"/>
                </a:lnTo>
                <a:lnTo>
                  <a:pt x="0" y="12"/>
                </a:lnTo>
                <a:lnTo>
                  <a:pt x="4" y="19"/>
                </a:lnTo>
                <a:lnTo>
                  <a:pt x="8" y="21"/>
                </a:lnTo>
                <a:lnTo>
                  <a:pt x="11" y="23"/>
                </a:lnTo>
                <a:lnTo>
                  <a:pt x="15" y="21"/>
                </a:lnTo>
                <a:lnTo>
                  <a:pt x="15" y="21"/>
                </a:lnTo>
                <a:lnTo>
                  <a:pt x="19" y="19"/>
                </a:lnTo>
                <a:lnTo>
                  <a:pt x="23" y="12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52960" y="5460840"/>
            <a:ext cx="1872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2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3"/>
                </a:lnTo>
                <a:lnTo>
                  <a:pt x="12" y="23"/>
                </a:lnTo>
                <a:lnTo>
                  <a:pt x="16" y="23"/>
                </a:lnTo>
                <a:lnTo>
                  <a:pt x="16" y="23"/>
                </a:lnTo>
                <a:lnTo>
                  <a:pt x="19" y="19"/>
                </a:lnTo>
                <a:lnTo>
                  <a:pt x="23" y="12"/>
                </a:lnTo>
                <a:lnTo>
                  <a:pt x="19" y="4"/>
                </a:lnTo>
                <a:lnTo>
                  <a:pt x="16" y="2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724280" y="4645080"/>
            <a:ext cx="17640" cy="17280"/>
          </a:xfrm>
          <a:custGeom>
            <a:avLst/>
            <a:gdLst/>
            <a:ahLst/>
            <a:rect l="l" t="t" r="r" b="b"/>
            <a:pathLst>
              <a:path w="23" h="23">
                <a:moveTo>
                  <a:pt x="8" y="0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1"/>
                </a:lnTo>
                <a:lnTo>
                  <a:pt x="12" y="23"/>
                </a:lnTo>
                <a:lnTo>
                  <a:pt x="17" y="21"/>
                </a:lnTo>
                <a:lnTo>
                  <a:pt x="17" y="21"/>
                </a:lnTo>
                <a:lnTo>
                  <a:pt x="19" y="19"/>
                </a:lnTo>
                <a:lnTo>
                  <a:pt x="23" y="12"/>
                </a:lnTo>
                <a:lnTo>
                  <a:pt x="19" y="4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756320" y="4626000"/>
            <a:ext cx="1728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2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3"/>
                </a:lnTo>
                <a:lnTo>
                  <a:pt x="12" y="23"/>
                </a:lnTo>
                <a:lnTo>
                  <a:pt x="16" y="23"/>
                </a:lnTo>
                <a:lnTo>
                  <a:pt x="16" y="23"/>
                </a:lnTo>
                <a:lnTo>
                  <a:pt x="20" y="19"/>
                </a:lnTo>
                <a:lnTo>
                  <a:pt x="23" y="12"/>
                </a:lnTo>
                <a:lnTo>
                  <a:pt x="20" y="4"/>
                </a:lnTo>
                <a:lnTo>
                  <a:pt x="16" y="2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88000" y="4610160"/>
            <a:ext cx="17280" cy="17280"/>
          </a:xfrm>
          <a:custGeom>
            <a:avLst/>
            <a:gdLst/>
            <a:ahLst/>
            <a:rect l="l" t="t" r="r" b="b"/>
            <a:pathLst>
              <a:path w="23" h="23">
                <a:moveTo>
                  <a:pt x="5" y="0"/>
                </a:moveTo>
                <a:lnTo>
                  <a:pt x="4" y="2"/>
                </a:lnTo>
                <a:lnTo>
                  <a:pt x="0" y="12"/>
                </a:lnTo>
                <a:lnTo>
                  <a:pt x="4" y="19"/>
                </a:lnTo>
                <a:lnTo>
                  <a:pt x="7" y="21"/>
                </a:lnTo>
                <a:lnTo>
                  <a:pt x="11" y="23"/>
                </a:lnTo>
                <a:lnTo>
                  <a:pt x="15" y="21"/>
                </a:lnTo>
                <a:lnTo>
                  <a:pt x="15" y="21"/>
                </a:lnTo>
                <a:lnTo>
                  <a:pt x="19" y="19"/>
                </a:lnTo>
                <a:lnTo>
                  <a:pt x="23" y="12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336680" y="3695760"/>
            <a:ext cx="3682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629240" y="2781360"/>
            <a:ext cx="3664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82960" y="5340240"/>
            <a:ext cx="3682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982960" y="3695760"/>
            <a:ext cx="3682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00440" y="241452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29240" y="442584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58040" y="332892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23080" y="4975200"/>
            <a:ext cx="368280" cy="36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30200" y="3780000"/>
            <a:ext cx="366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81320" y="37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42680" y="3784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89280" y="251316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41840" y="25178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03200" y="2517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22760" y="2876400"/>
            <a:ext cx="3682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675680" y="2881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936680" y="2881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58040" y="3417840"/>
            <a:ext cx="36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510600" y="3421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71960" y="3421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24520" y="507528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77440" y="50799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138800" y="5079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27440" y="45464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80360" y="45514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941360" y="4551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84400" y="380376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37320" y="3808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98320" y="3808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89440" y="5440320"/>
            <a:ext cx="36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2000" y="54450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71640" y="4243320"/>
            <a:ext cx="8809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28520" y="43020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K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74480" y="4302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486440" y="43020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28520" y="44766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374480" y="4476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486440" y="44766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28520" y="46512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3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374480" y="465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86440" y="46512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749240" y="465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028520" y="48322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74480" y="483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486440" y="48322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749240" y="483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82760" y="2149560"/>
            <a:ext cx="881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41440" y="2209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5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587400" y="2209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699360" y="2209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160" y="2209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41440" y="238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06640" y="4975200"/>
            <a:ext cx="879480" cy="91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063520" y="50324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409480" y="5032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21440" y="5032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82440" y="5032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063520" y="5208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409480" y="520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521440" y="52084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82440" y="520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63520" y="5383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09480" y="5383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21440" y="5383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82440" y="5383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63520" y="55627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6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09480" y="55627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21440" y="55627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82440" y="55627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245360" y="4762440"/>
            <a:ext cx="352440" cy="382680"/>
          </a:xfrm>
          <a:custGeom>
            <a:avLst/>
            <a:gdLst/>
            <a:ahLst/>
            <a:rect l="l" t="t" r="r" b="b"/>
            <a:pathLst>
              <a:path w="443" h="482">
                <a:moveTo>
                  <a:pt x="0" y="0"/>
                </a:moveTo>
                <a:lnTo>
                  <a:pt x="0" y="482"/>
                </a:lnTo>
                <a:lnTo>
                  <a:pt x="387" y="482"/>
                </a:lnTo>
                <a:lnTo>
                  <a:pt x="443" y="422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553160" y="5099040"/>
            <a:ext cx="44640" cy="46080"/>
          </a:xfrm>
          <a:custGeom>
            <a:avLst/>
            <a:gdLst/>
            <a:ahLst/>
            <a:rect l="l" t="t" r="r" b="b"/>
            <a:pathLst>
              <a:path w="56" h="60">
                <a:moveTo>
                  <a:pt x="0" y="60"/>
                </a:moveTo>
                <a:lnTo>
                  <a:pt x="16" y="2"/>
                </a:lnTo>
                <a:lnTo>
                  <a:pt x="22" y="8"/>
                </a:lnTo>
                <a:lnTo>
                  <a:pt x="31" y="10"/>
                </a:lnTo>
                <a:lnTo>
                  <a:pt x="43" y="6"/>
                </a:lnTo>
                <a:lnTo>
                  <a:pt x="56" y="0"/>
                </a:lnTo>
                <a:lnTo>
                  <a:pt x="0" y="60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245360" y="4762440"/>
            <a:ext cx="352440" cy="382680"/>
          </a:xfrm>
          <a:custGeom>
            <a:avLst/>
            <a:gdLst/>
            <a:ahLst/>
            <a:rect l="l" t="t" r="r" b="b"/>
            <a:pathLst>
              <a:path w="443" h="482">
                <a:moveTo>
                  <a:pt x="0" y="0"/>
                </a:moveTo>
                <a:lnTo>
                  <a:pt x="0" y="482"/>
                </a:lnTo>
                <a:lnTo>
                  <a:pt x="387" y="482"/>
                </a:lnTo>
                <a:lnTo>
                  <a:pt x="443" y="422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553160" y="5099040"/>
            <a:ext cx="44640" cy="46080"/>
          </a:xfrm>
          <a:custGeom>
            <a:avLst/>
            <a:gdLst/>
            <a:ahLst/>
            <a:rect l="l" t="t" r="r" b="b"/>
            <a:pathLst>
              <a:path w="56" h="60">
                <a:moveTo>
                  <a:pt x="0" y="60"/>
                </a:moveTo>
                <a:lnTo>
                  <a:pt x="16" y="2"/>
                </a:lnTo>
                <a:lnTo>
                  <a:pt x="22" y="8"/>
                </a:lnTo>
                <a:lnTo>
                  <a:pt x="31" y="10"/>
                </a:lnTo>
                <a:lnTo>
                  <a:pt x="43" y="6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291440" y="4849920"/>
            <a:ext cx="304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289640" y="48560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61080" y="4856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349800" y="4975200"/>
            <a:ext cx="350640" cy="38268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2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49800" y="4975200"/>
            <a:ext cx="350640" cy="38268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2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4080" y="5060880"/>
            <a:ext cx="304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92280" y="506736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663720" y="50673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805040" y="3583080"/>
            <a:ext cx="352440" cy="38232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3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112840" y="3917880"/>
            <a:ext cx="44640" cy="47520"/>
          </a:xfrm>
          <a:custGeom>
            <a:avLst/>
            <a:gdLst/>
            <a:ahLst/>
            <a:rect l="l" t="t" r="r" b="b"/>
            <a:pathLst>
              <a:path w="56" h="59">
                <a:moveTo>
                  <a:pt x="0" y="59"/>
                </a:moveTo>
                <a:lnTo>
                  <a:pt x="15" y="1"/>
                </a:lnTo>
                <a:lnTo>
                  <a:pt x="21" y="7"/>
                </a:lnTo>
                <a:lnTo>
                  <a:pt x="31" y="9"/>
                </a:lnTo>
                <a:lnTo>
                  <a:pt x="42" y="5"/>
                </a:lnTo>
                <a:lnTo>
                  <a:pt x="56" y="0"/>
                </a:lnTo>
                <a:lnTo>
                  <a:pt x="0" y="5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805040" y="3583080"/>
            <a:ext cx="352440" cy="38232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3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112840" y="3917880"/>
            <a:ext cx="44640" cy="47520"/>
          </a:xfrm>
          <a:custGeom>
            <a:avLst/>
            <a:gdLst/>
            <a:ahLst/>
            <a:rect l="l" t="t" r="r" b="b"/>
            <a:pathLst>
              <a:path w="56" h="59">
                <a:moveTo>
                  <a:pt x="0" y="59"/>
                </a:moveTo>
                <a:lnTo>
                  <a:pt x="15" y="1"/>
                </a:lnTo>
                <a:lnTo>
                  <a:pt x="21" y="7"/>
                </a:lnTo>
                <a:lnTo>
                  <a:pt x="31" y="9"/>
                </a:lnTo>
                <a:lnTo>
                  <a:pt x="42" y="5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851120" y="3668760"/>
            <a:ext cx="304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849320" y="3675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120760" y="3675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3348000" y="5155920"/>
            <a:ext cx="3456000" cy="3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132000" y="4075200"/>
            <a:ext cx="1800" cy="1226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33000" y="61038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rts are performed similarly – they are unsuccessful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reenet strengths and weaknes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te decentral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self-orga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ability (to some degre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able efficiency &amp;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 keys disappear from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performance requires high overhead (maintenance of additional information for rout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Limit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 is hard to achie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s a single point of fail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administ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used resources at the network 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ystems try to address these limi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Review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key functions of P2P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ing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ct transfer between pe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systems do th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ed vs. unstructured placement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omatic replication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ing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alized (Napst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centralized (Gnutell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abilistic guarantees (DH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ssues with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 Riding (Free Load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types of free ri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ing but not sharing an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haring any interest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Gnu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% of users contribute 94% of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users never responded to a qu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dn’t have “interesting”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anking: what is a trusted sour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of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Architectu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48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nodes are both 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d consum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node can initiate a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ntralized data 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ltimate form of democracy on the Internet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ltimate threat to copy-right protection on the Internet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3244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Content from http://project-iris.net/talks/dht-toronto-03.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71840" y="2209680"/>
            <a:ext cx="4651200" cy="2489760"/>
            <a:chOff x="4371840" y="2209680"/>
            <a:chExt cx="4651200" cy="2489760"/>
          </a:xfrm>
        </p:grpSpPr>
        <p:grpSp>
          <p:nvGrpSpPr>
            <p:cNvPr id="98" name=""/>
            <p:cNvGrpSpPr/>
            <p:nvPr/>
          </p:nvGrpSpPr>
          <p:grpSpPr>
            <a:xfrm>
              <a:off x="5240160" y="2806560"/>
              <a:ext cx="2743200" cy="1657440"/>
              <a:chOff x="5240160" y="2806560"/>
              <a:chExt cx="2743200" cy="1657440"/>
            </a:xfrm>
          </p:grpSpPr>
          <p:sp>
            <p:nvSpPr>
              <p:cNvPr id="99" name=""/>
              <p:cNvSpPr/>
              <p:nvPr/>
            </p:nvSpPr>
            <p:spPr>
              <a:xfrm>
                <a:off x="5592600" y="3138480"/>
                <a:ext cx="106236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5760" y="280656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67480" y="305424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43880" y="330372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21360" y="330372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43880" y="363528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24680" y="388476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40160" y="3303720"/>
                <a:ext cx="106236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35760" y="338616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05480" y="371808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201160" y="3913200"/>
              <a:ext cx="529920" cy="351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9840" y="2587680"/>
              <a:ext cx="530280" cy="350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0880" y="3914640"/>
              <a:ext cx="529920" cy="411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11880" y="2209680"/>
              <a:ext cx="530280" cy="351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17000" y="2517840"/>
              <a:ext cx="530280" cy="350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559560" y="2533320"/>
              <a:ext cx="1440" cy="4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884480" y="2838240"/>
              <a:ext cx="7570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876920" y="3831840"/>
              <a:ext cx="8794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493040" y="3909960"/>
              <a:ext cx="8445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427880" y="2808000"/>
              <a:ext cx="86040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61160" y="23893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1840" y="29275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71840" y="43005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4680" y="43005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4680" y="28670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3080" y="346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42:04Z</dcterms:created>
  <dc:creator>Digital Classroom Project</dc:creator>
  <dc:description/>
  <dc:language>en-US</dc:language>
  <cp:lastModifiedBy>vasosv</cp:lastModifiedBy>
  <dcterms:modified xsi:type="dcterms:W3CDTF">2008-02-07T23:19:26Z</dcterms:modified>
  <cp:revision>113</cp:revision>
  <dc:subject/>
  <dc:title>A Peer-to-Peer Tutorial</dc:title>
</cp:coreProperties>
</file>